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441-66DF-4C3D-915E-E3407AB4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7E3-BD2C-4CB1-B3DE-8D8859A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B52-1A4E-431E-AFF4-5E6183F5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76B-0931-4F5A-A088-57876CCD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57D-804D-4BD5-B976-0DE2433D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408-4628-46BF-802F-E32CFA3A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9F1-112F-40EC-BEA1-F36C5124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5B3-7F11-49FC-B538-0C33ACA6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0AB-CE2C-4823-9CB5-F12DCF0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DEE-EF6D-4C28-AEF7-CC5C6BB9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B1C-8D55-44AC-A6A8-F905881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28F-A644-44F6-8550-83B9B69E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7452-64BD-4EC9-802E-FF238387F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260280"/>
            <a:ext cx="8713440" cy="5905080"/>
            <a:chOff x="179280" y="260280"/>
            <a:chExt cx="8713440" cy="5905080"/>
          </a:xfrm>
        </p:grpSpPr>
        <p:sp>
          <p:nvSpPr>
            <p:cNvPr id="42" name=""/>
            <p:cNvSpPr/>
            <p:nvPr/>
          </p:nvSpPr>
          <p:spPr>
            <a:xfrm>
              <a:off x="7446240" y="5057640"/>
              <a:ext cx="1446480" cy="969480"/>
            </a:xfrm>
            <a:custGeom>
              <a:avLst/>
              <a:gdLst/>
              <a:ahLst/>
              <a:rect l="l" t="t" r="r" b="b"/>
              <a:pathLst>
                <a:path w="1568" h="896">
                  <a:moveTo>
                    <a:pt x="0" y="0"/>
                  </a:moveTo>
                  <a:lnTo>
                    <a:pt x="0" y="896"/>
                  </a:lnTo>
                  <a:lnTo>
                    <a:pt x="1568" y="896"/>
                  </a:lnTo>
                  <a:lnTo>
                    <a:pt x="8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56800" y="5086080"/>
              <a:ext cx="1110960" cy="9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89960" y="5057640"/>
              <a:ext cx="1162080" cy="96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69120" y="5057640"/>
              <a:ext cx="1239480" cy="96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8360" y="5028480"/>
              <a:ext cx="2222640" cy="998640"/>
            </a:xfrm>
            <a:custGeom>
              <a:avLst/>
              <a:gdLst/>
              <a:ahLst/>
              <a:rect l="l" t="t" r="r" b="b"/>
              <a:pathLst>
                <a:path w="1988" h="868">
                  <a:moveTo>
                    <a:pt x="532" y="0"/>
                  </a:moveTo>
                  <a:lnTo>
                    <a:pt x="0" y="868"/>
                  </a:lnTo>
                  <a:lnTo>
                    <a:pt x="1988" y="868"/>
                  </a:lnTo>
                  <a:lnTo>
                    <a:pt x="1988" y="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10800000">
              <a:off x="5945760" y="4005720"/>
              <a:ext cx="2222640" cy="911520"/>
            </a:xfrm>
            <a:custGeom>
              <a:avLst/>
              <a:gdLst/>
              <a:ahLst/>
              <a:rect l="l" t="t" r="r" b="b"/>
              <a:pathLst>
                <a:path w="1988" h="868">
                  <a:moveTo>
                    <a:pt x="532" y="0"/>
                  </a:moveTo>
                  <a:lnTo>
                    <a:pt x="0" y="868"/>
                  </a:lnTo>
                  <a:lnTo>
                    <a:pt x="1988" y="868"/>
                  </a:lnTo>
                  <a:lnTo>
                    <a:pt x="1988" y="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79400" y="4142520"/>
              <a:ext cx="12412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Τιμές και Μισθο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90120" y="4030560"/>
              <a:ext cx="1525680" cy="85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40840" y="4005720"/>
              <a:ext cx="2120760" cy="856440"/>
            </a:xfrm>
            <a:custGeom>
              <a:avLst/>
              <a:gdLst/>
              <a:ahLst/>
              <a:rect l="l" t="t" r="r" b="b"/>
              <a:pathLst>
                <a:path w="1988" h="868">
                  <a:moveTo>
                    <a:pt x="532" y="0"/>
                  </a:moveTo>
                  <a:lnTo>
                    <a:pt x="0" y="868"/>
                  </a:lnTo>
                  <a:lnTo>
                    <a:pt x="1988" y="868"/>
                  </a:lnTo>
                  <a:lnTo>
                    <a:pt x="1988" y="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2687400" y="2559960"/>
              <a:ext cx="4782960" cy="1302480"/>
            </a:xfrm>
            <a:custGeom>
              <a:avLst/>
              <a:gdLst>
                <a:gd name="textAreaLeft" fmla="*/ 866880 w 4782960"/>
                <a:gd name="textAreaRight" fmla="*/ 3916080 w 4782960"/>
                <a:gd name="textAreaTop" fmla="*/ 236160 h 1302480"/>
                <a:gd name="textAreaBottom" fmla="*/ 1066320 h 130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01" y="21600"/>
                  </a:lnTo>
                  <a:lnTo>
                    <a:pt x="3899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44280" y="260280"/>
              <a:ext cx="2844000" cy="2161080"/>
            </a:xfrm>
            <a:prstGeom prst="triangle">
              <a:avLst>
                <a:gd name="adj" fmla="val 49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91320" y="875880"/>
              <a:ext cx="2019600" cy="15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Μεγέθυνσ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Απασχόλησ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Βιοτικό Επίπεδ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Ποιότητα Ζωή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99440" y="3004560"/>
              <a:ext cx="2457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Ανταγωνιστικότητ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70440" y="4252680"/>
              <a:ext cx="199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Παραγωγικότητ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07040" y="4037040"/>
              <a:ext cx="1578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Κόστος επιχειρήσεω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3120" y="5034600"/>
              <a:ext cx="201960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Μακροοικονομικό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πιχειρηματικό κα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ργασιακό Περιβάλλο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8000" y="5140440"/>
              <a:ext cx="152784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Οικονομικές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Τεχνολογικ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Υποδομ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89960" y="5140440"/>
              <a:ext cx="131796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κπαίδευση κα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Δεξιότητε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79400" y="5112360"/>
              <a:ext cx="139536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300" spc="-1" strike="noStrike">
                  <a:solidFill>
                    <a:srgbClr val="000000"/>
                  </a:solidFill>
                  <a:latin typeface="Arial"/>
                </a:rPr>
                <a:t>Επιχειρηματι-κότητα κα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300" spc="-1" strike="noStrike">
                  <a:solidFill>
                    <a:srgbClr val="000000"/>
                  </a:solidFill>
                  <a:latin typeface="Arial"/>
                </a:rPr>
                <a:t>Ανάπτυξη των Επιχειρήσεω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67760" y="5112360"/>
              <a:ext cx="131868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</a:rPr>
                <a:t>Καινοτομία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</a:rPr>
                <a:t>κα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</a:rPr>
                <a:t>Δημιουργικό-τητ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08960" y="1375200"/>
              <a:ext cx="1595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Τελικές Εκρο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6640" y="3892320"/>
              <a:ext cx="16290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νδιάμεσε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κρο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38120" y="4918680"/>
              <a:ext cx="77824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3680" y="2450520"/>
              <a:ext cx="602460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5139360"/>
              <a:ext cx="12430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ισρο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6:50:13Z</dcterms:created>
  <dc:creator>Elias Mantzouneas</dc:creator>
  <dc:description/>
  <dc:language>en-US</dc:language>
  <cp:lastModifiedBy>Elias Mantzouneas</cp:lastModifiedBy>
  <dcterms:modified xsi:type="dcterms:W3CDTF">2005-06-15T16:52:57Z</dcterms:modified>
  <cp:revision>1</cp:revision>
  <dc:subject/>
  <dc:title>Διαφάνεια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4875825</vt:r8>
  </property>
  <property fmtid="{D5CDD505-2E9C-101B-9397-08002B2CF9AE}" pid="3" name="_AuthorEmail">
    <vt:lpwstr>emantz@mnec.gr</vt:lpwstr>
  </property>
  <property fmtid="{D5CDD505-2E9C-101B-9397-08002B2CF9AE}" pid="4" name="_AuthorEmailDisplayName">
    <vt:lpwstr>Elias Mantzouneas</vt:lpwstr>
  </property>
  <property fmtid="{D5CDD505-2E9C-101B-9397-08002B2CF9AE}" pid="5" name="_EmailSubject">
    <vt:lpwstr>Εισήγηση Αναπτυξιακού Συνεδρίου</vt:lpwstr>
  </property>
</Properties>
</file>