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0B3-4D54-4290-8A31-2D5F7EC2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C94-6130-44AE-861E-4B9CEB41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CDF-DDCE-4488-8A1C-FCDC12E9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5EE-4535-44BD-AE5F-E00F2CB7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F12-4E2D-4419-A869-47324DC7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5E8-4D3E-4B1A-AFEE-C4B9222C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700-9CBC-4E34-A529-E2F1F700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E06-BEDE-4801-8A07-4FF2A873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E83-A6B0-48D8-9FDD-B346A77D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8F3-5B1E-494D-B3F1-94E1F197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3BF-B946-46D2-869B-C9698EB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2DB-72F6-48E2-9694-2453B3D2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300C-3EE5-4FC0-A255-EE14E863C51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06440" y="163440"/>
            <a:ext cx="6529320" cy="652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ΕΙΔΙΚΗ ΥΠΗΡΕΣΙΑ ΔΙΑΧΕΙΡΙΣ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ΠΕΠ ΗΠΕΙΡ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ΙΦΕΡΕΙΑΚΟ ΕΠΙΧΕΙΡΗΣΙΑΚΟ ΠΡΟΓΡΑΜΜΑ ΗΠΕΙΡΟΥ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1420920" cy="898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328760" cy="898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6095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ΥΡΩΠΑΪΚΟ ΚΟΙΝΩΝΙΚΟ ΤΑΜ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93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5029200"/>
          <a:ext cx="210492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029200"/>
                    <a:ext cx="2104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486080" y="1371600"/>
            <a:ext cx="6172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ΑΠΤΥΞΗ ΑΝΘΡΩΠΙΝΟΥ ΔΥΝΑΜΙΚΟΥ- ΑΠΑΣΧΟΛ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7B5-A2FD-40FC-8E89-224587E93BCD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457200"/>
            <a:ext cx="777564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Αναγκαιότητα  η </a:t>
            </a:r>
            <a:br>
              <a:rPr sz="4400"/>
            </a:b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πανεξέταση / επαναπροσδιορισμός 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042920" y="242100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στημάτων καθορισμού και εξειδίκευσης των προγραμμάτων κατάρτισης και λοιπών δράσεω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ων θεμάτων της  εταιρικότητας, της απασχόλησης    και της κοινωνικής ενσωμάτω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069-5987-40B4-B8F8-7F54101ED2AB}" type="slidenum">
              <a:t>10</a:t>
            </a:fld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1420920" cy="89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328760" cy="898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62720" y="6095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ΥΡΩΠΑΪΚΟ ΚΟΙΝΩΝΙΚΟ ΤΑΜ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193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5029200"/>
          <a:ext cx="210492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029200"/>
                    <a:ext cx="2104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486080" y="1371600"/>
            <a:ext cx="6172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ΑΠΤΥΞΗ ΑΝΘΡΩΠΙΝΟΥ ΔΥΝΑΜΙΚΟΥ- ΑΠΑΣΧΟΛ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EE2-C945-425D-B293-1CC0D1003915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 ΕΚΤ ΣΤΟ ΠΕΠ ΗΠΕΙΡΟ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ΟΛΙΚΟΣ ΠΡΟΥΠΟΛΟΓΙΣΜ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43.867.078 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ΟΣΟΣΤΟ ΔΗΜΟΣΙΑΣ ΔΑΠΑΝΗΣ ΤΟΥ ΠΕΠ ΗΠΕΙΡ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6,8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175-3CBD-4EA9-B5FE-8DFC6008A69B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8680" y="990360"/>
            <a:ext cx="7845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Οι δημιουργούμενες νέες θέσεις εργασίας από την λειτουργία των </a:t>
            </a:r>
            <a:br>
              <a:rPr sz="4400"/>
            </a:br>
            <a:br>
              <a:rPr sz="4400"/>
            </a:b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προγραμμάτων  Δομών </a:t>
            </a:r>
            <a:br>
              <a:rPr sz="4400"/>
            </a:br>
            <a:br>
              <a:rPr sz="4400"/>
            </a:b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Κοινωνικών Υπηρεσιών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4AA-7397-42AF-A17A-18564417100B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914400" y="495360"/>
          <a:ext cx="6858000" cy="53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95360"/>
                    <a:ext cx="685800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B50-A4D7-45DE-B808-CD9CC23A6CC0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8680" y="685800"/>
            <a:ext cx="7845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Οι δημιουργούμενες νέες θέσεις εργασίας από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τις δράσεις προώθησης στην απασχόληση μέσω 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του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Ο.Α.Ε.Δ </a:t>
            </a:r>
            <a:br>
              <a:rPr sz="4400"/>
            </a:br>
            <a:br>
              <a:rPr sz="4400"/>
            </a:b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(ΝΘΕ)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(ΝΕΕ) –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TAGE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295-4564-471C-9112-B95EC40BAE52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896760" y="609480"/>
          <a:ext cx="7348680" cy="517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6760" y="609480"/>
                    <a:ext cx="734868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AFC-FA7E-48A2-9769-A2A1F331CCD3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28480" y="685800"/>
          <a:ext cx="8087040" cy="495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685800"/>
                    <a:ext cx="808704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C8B-7379-48E0-A626-832F02F097AD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80880" y="1600200"/>
          <a:ext cx="8382240" cy="310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838224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CCC-54E8-469D-B6CB-1D67FD2F6C60}" type="slidenum">
              <a:t>18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6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ΑΠΟΣΤΟΛΗ ΤΟΥ ΕΚ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16765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Η συμβολή στην ανάπτυξη της απασχόληση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χάρη στην προώθηση της απασχολησιμότητα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του επιχειρηματικού πνεύματο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της ικανότητας προσαρμογή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και της ισότητας των ευκαιριώ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καθώς και επένδυση στους ανθρώπινους πόρου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1F5-E775-482C-977B-E0CF5A72F65F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Μέτρο 5.1: </a:t>
            </a:r>
            <a:br>
              <a:rPr sz="1800"/>
            </a:br>
            <a:br>
              <a:rPr sz="1800"/>
            </a:b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ΠΡΟΩΘΗΣΗ ΤΩΝ ΚΟΙΝΩΝΙΚΩΝ ΥΠΗΡΕΣΙΩΝ ΚΑΙ ΤΗΣ ΙΣΟΤΗΤΑΣ ΤΩΝ ΕΥΚΑΙΡΙΩΝ</a:t>
            </a:r>
            <a:r>
              <a:rPr b="0" lang="el-GR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167652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62 μονάδες «Βοήθεια στο σπίτι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4 Κέντρα Ημερήσιας Φροντίδας Ηλικιωμένω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8 παιδικοί ή βρεφονηπιακοί σταθμο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10 Κέντρα Δημιουργικής Απασχόλησης Παιδιώ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317 θέσεις εργασ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ο 88% των θέσεων έχει καλυφθεί από γυναίκ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7FF-5A11-45D5-B392-DE50EF8BFC57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Μέτρο 5.2: </a:t>
            </a:r>
            <a:br>
              <a:rPr sz="2000"/>
            </a:br>
            <a:br>
              <a:rPr sz="2000"/>
            </a:b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ΝΑΠΤΥΞΗ ΑΝΘΡΩΠΙΝΟΥ ΔΥΝΑΜΙΚΟΥ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16765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Χρηματοδοτούνται δράσεις επαγγελματικής κατάρτιση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χουν καταρτιστεί ήδη 851 Άνεργο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ναμένεται να καταρτιστούν ακόμη 660 άτο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817-C173-4194-BE7A-3DB3C0C7BD39}" type="slidenum">
              <a:t>4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Μέτρο 5.3: </a:t>
            </a:r>
            <a:br>
              <a:rPr sz="2000"/>
            </a:br>
            <a:br>
              <a:rPr sz="2000"/>
            </a:b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ΤΟΠΙΚΕΣ ΠΡΩΤΟΒΟΥΛΙΕΣ ΑΠΑΣΧΟΛΗΣΗΣ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066680" y="1676520"/>
            <a:ext cx="76201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8 επιχειρησιακά σχέδια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υμβουλευτικές υπηρεσίες σε 1667 άνεργου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οώθηση στην απασχόληση 1485 ατόμων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(520 Νέες Θέσεις Εργασίας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245 Νέοι Ελεύθεροι Επαγγελματίες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72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τάρτιση 410 ατόμων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07F-2D68-414C-B2BD-6CB9CE0A7DB3}" type="slidenum">
              <a:t>5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000000"/>
                </a:solidFill>
                <a:uFillTx/>
                <a:latin typeface="Arial"/>
              </a:rPr>
              <a:t>Στρατηγική της Λισσαβώνας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066680" y="167652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Να γίνει η  Ευρωπαϊκή Ένωση, µέχρι το 201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δυναµική και ανταγωνιστική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ασισµένη στη γνώση οικονοµία του κόσµο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κανή να συνδυάζει την οικονοµική ανάπτυξ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µε περισσότερες και καλύτερες θέσεις εργασίας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µε µεγαλύτερη κοινωνική συνοχή και σεβασµό στο περιβάλλο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5C8-00CA-460E-A6BF-0C2F88246BE5}" type="slidenum">
              <a:t>6</a:t>
            </a:fld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Θετικά σημεία-ευκαιρίε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066680" y="1676520"/>
            <a:ext cx="762012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τάση βελτίωσης του μορφωτικού-εκπαιδευτικού επιπέδο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 ύπαρξη ανώτατων εκπαιδευτικών ιδρυμάτω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ημαντικός αριθμός δομών που προωθούν την ισότητα ευκαριών των δύο φύλω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μπειρίες από υλοποίηση προγραμμάτων και Κ.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συμμετοχή των τοπικών  φορέων στη διαμόρφωση των δράσεων μέσω των ολοκληρωμένων παρεμβάσεων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220-45F9-4F90-82FE-569913728B12}" type="slidenum">
              <a:t>7</a:t>
            </a:fld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</a:rPr>
              <a:t>Αδύνατα σημεία-κίνδυνοι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066680" y="167652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δυναμίες του μηχανισμού σχεδιασμού και προγραμματισμού των προγραμ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υψηλό  ποσοστό απασχόλησης στον πρωτογενή τομέ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ποιοτικά χαρακτηριστικά της ανεργ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κίνδυνος να αποκτήσουν οι πολιτικές απασχόλησης επιδοματικό χαρακτήρ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B81-6DBA-4AF1-8347-73A867E7E073}" type="slidenum">
              <a:t>8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τόχο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066680" y="16765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ια οικονομία με αυξημένες γνώσεις κα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κανότητες του ανθρώπινου δυναμικο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2A0-BA9C-4DFC-9C5E-F5A5E328039B}" type="slidenum">
              <a:t>9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ipapan</cp:lastModifiedBy>
  <dcterms:modified xsi:type="dcterms:W3CDTF">2005-06-23T11:29:45Z</dcterms:modified>
  <cp:revision>101</cp:revision>
  <dc:subject/>
  <dc:title>Παρουσίαση του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91436979</vt:r8>
  </property>
  <property fmtid="{D5CDD505-2E9C-101B-9397-08002B2CF9AE}" pid="3" name="_AuthorEmail">
    <vt:lpwstr>vmilonas@mou.gr</vt:lpwstr>
  </property>
  <property fmtid="{D5CDD505-2E9C-101B-9397-08002B2CF9AE}" pid="4" name="_AuthorEmailDisplayName">
    <vt:lpwstr>ΜΥΛΩΝΑΣ ΒΑΣΙΛΗΣ</vt:lpwstr>
  </property>
  <property fmtid="{D5CDD505-2E9C-101B-9397-08002B2CF9AE}" pid="5" name="_EmailSubject">
    <vt:lpwstr>ΕΙΣΗΓΗΣΗ ΜΥΛΩΝΑΣ</vt:lpwstr>
  </property>
</Properties>
</file>