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3360" y="5897520"/>
            <a:ext cx="1828800" cy="917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740800" y="6165720"/>
            <a:ext cx="403200" cy="692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461000" y="646128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ΠΑΝΕΠΙΣΤΗΜΙ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ΙΩΑΝΝΙΝΩ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71640" y="6308640"/>
            <a:ext cx="770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0960" y="638172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Βελτίωση της Προσπελασιμότητας στις παρεχόμενες υπηρεσίε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24 Ιουνίου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15960"/>
            <a:ext cx="9144000" cy="533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1165320"/>
            <a:ext cx="9144000" cy="533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" y="1720800"/>
            <a:ext cx="9144000" cy="533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549360"/>
            <a:ext cx="91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Βελτίωση της προσπελασιμότητ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000" y="1708200"/>
            <a:ext cx="85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οικονομικού &amp; κοινωνικού ενδιαφέρ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95360"/>
            <a:ext cx="9144000" cy="1133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Η Συμβολή της Κοινωνίας της Πληροφορ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120348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στις παρεχόμενες υπηρεσ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751200"/>
            <a:ext cx="496728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Κωνσταντίνα Μπάγκ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Υπάλληλος Πανεπιστημίου Ιωαννί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Μονάδα Ιατρικής Τεχνολογίας και Ευφυών Πληροφοριακών Συστημά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Υπεύθυνη Ομάδας Μηχανικών Λογισμικο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1341360"/>
            <a:ext cx="842472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Καταγραφή και τεκμηρίωση αντικειμένων, συλλογών, κτιρίων και κάθε τι άλλο πολιτιστικού ενδιαφέρ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Συντήρηση υλικού και αποτροπή καταστροφ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Αξιοποίηση υλικού για έρευνα, μελέτες και προβολ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Νέοι τρόποι έκφρα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96840" y="351000"/>
            <a:ext cx="46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ον Πολιτισμ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341360"/>
            <a:ext cx="842472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ύγχρονα Συστήματα Προσωποποιημένης Ξενάγ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ή Παρουσίαση πληροφοριών στο σημείο που απαιτείται ή που ζητεί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ροσωποποιημένη παρουσίαση πληροφοριών ανάλογα με τα χαρακτηριστικά του χρήστ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υκολία στην ανανέωση και πληρότητα των πληροφο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υκολία στην διασύνδεση πληροφοριών και στο στήσιμο νέων παρουσιάσεων διαφορετικού χαρακτήρα.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56600" y="351000"/>
            <a:ext cx="57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ύγχρονες εξελίξ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1197000"/>
            <a:ext cx="82090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Ολοκληρωμένα Συστήματα Διαχείρισης Μικρών και Μεγάλων Ξενοδοχειακών Μονάδ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Διαχείριση Κλινών, Εστιατορίου, Προσωπικού, Βάρδι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Συστήματα Ηλεκτρονικών Κρατήσεων Δωματ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Διαθεσιμότητα, Κράτηση, Πληρωμ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ή Προβολή και Διαφήμι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Διαδίκτυ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Κιόσκια Πληροφο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Προσφορά υπηρεσιών πληροφορικής στους πελά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28440" y="351000"/>
            <a:ext cx="44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ον Τουρισμ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1341360"/>
            <a:ext cx="828036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Ολοκληρωμένα Συστήματα Τουριστικών Πακέτων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 – </a:t>
            </a: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υνεργασία Φορέ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μονή, Δραστηριότητες, Διασκέδ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ή Ενημέρωση Επισκέπ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Αυτόματη Ενημέρωση Επισκέπτη με την είσοδό του στην περιοχή ενδιαφέροντος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,</a:t>
            </a: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 για τη διαθεσιμότητα υπηρεσιών, αξιοθέατα μέσω υπηρεσιών κινητής τηλεφων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ά Συστήματα Καταγραφής Κίνησης Τουριστών και Διαπίστωσης Αναγκών Τουριστικής Αγορά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56600" y="351000"/>
            <a:ext cx="57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ύγχρονες εξελίξ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341360"/>
            <a:ext cx="799308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Συστήματα Παρακολούθησης και Άμεσου Εντοπισμού Κινδύν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Πυρκαγιές, μόλυνση υδ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Επιτόπια Παρακολούθηση (αισθητήρε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Απομακρυσμένη Παρακολούθηση (δορυφόρο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Εκπομπή σήματος κινδύνου και άμεση ενημέρωση αρμόδιων αρχ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Συστήματα Διαχείρισης Φυσικών Πόρ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Καταγραφή περιβαλλοντικών χαρακτηριστικ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Καταγραφή φυσικών πόρ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Σχεδιασμός διαχείρισης φυσικών πόρ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Βραχυπρόθεσμη και Μακροπρόθεσμη Πρόβλεψη επιπτώσεων μεταβολών φυσικού περιβάλλον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90360" y="351000"/>
            <a:ext cx="47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ο Περιβάλλο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341360"/>
            <a:ext cx="79930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υστήματα Διαχείρισης και Αντιμετώπισης Κρί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λημμύρες, πυρκαγιές, σεισμο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Άμεση καταγραφή ζημ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χείριση διαθέσιμων πόρων (ανθρώπινου δυναμικού, εγκαταστάσεων και εξοπλισμού, οδικών δικτύων)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 </a:t>
            </a: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για την αποτελεσματική και άμεση αντιμετώπιση των κρίσε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Σχεδιασμός Ασκήσεων ετοιμότητ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90360" y="351000"/>
            <a:ext cx="47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ο Περιβάλλο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1557360"/>
            <a:ext cx="83520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Ενημέρωσης Ταξιδιω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Στάσεις, χώροι στάθμευσης, καταστήματα, βενζινάδικα, φορείς παροχής ιατρικών υπηρεσ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Διαχείρισης Κυκλοφορίας και Ενημέρωσης Κοιν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ντοπισμός προβλημάτων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 κυκλοφορ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Υπολογισμός και προβολή εναλλακτικών διαδρομ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Φωνητική καθοδήγηση οδηγ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χείριση Φανα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15920" y="33336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ις Μεταφορέ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1341360"/>
            <a:ext cx="842472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Διαχείρισης Στόλου – Εταιρείες Μεταφο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αρακολούθηση πορείας οχημάτων και άμεσος εντοπισμός μεταφερόμενων προϊόν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Σχεδιασμός αποστολ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Κατανομή και χρήση διαθέσιμων πόρ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Διαχείρισης Μέσων Μαζικής Μεταφορά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χείριση στόλου μέσων μεταφοράς ανάλογα με τις ανάγκες που εντοπίζονται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 – </a:t>
            </a: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αυξημένη ζήτηση σε σημεία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 ή </a:t>
            </a: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ώρες αιχμ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χείριση Φαναριών – προτεραιότητα στα μέσα μαζικής μεταφορά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15920" y="33336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ις Μεταφορέ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1341360"/>
            <a:ext cx="835164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ή Πληρωμή Διοδ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Ασφάλε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Άμεσος εντοπισμός ατυχημάτων και ενημέρωση φορέ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Διαχείριση διαθέσιμων πόρων στην περιοχή για την γρηγορότερη πρόσβαση στο σημείο του ατυχήματο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15920" y="33336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ις Μεταφορέ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341360"/>
            <a:ext cx="8424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Ολοκληρωμένα Συστήματα Πληροφορ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Οργανόγραμμα φορέα και αρμοδιοτή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Μοντελοποίηση διαδικασιών φορέ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ό πρωτόκολλο και άμεση ενημέρωση ενδιαφερόν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ά αρχεία μελετών και άλλων στοιχείων που διαθέτει ο φορέ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ιασύνδεση Ολοκληρωμένων Συστημάτων Φορέ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ύκολη πρόσβαση και αναζήτηση πληροφοριών με κάθε τρόπο (κείμενο, εικόνα, φωνή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σύνδεση μοντελοποιημένων διαδικασιών φορέων για την μείωση του χρόνου απόκρισης στον πολίτ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ίκτυα Τηλε-συνεργασίας Φορέων Διοίκ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3360" y="333360"/>
            <a:ext cx="40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η Διοίκη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84000" y="1917360"/>
            <a:ext cx="40323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Παιδ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Υγεία &amp; Πρόνο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Πολιτισμ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Τουρισμ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Περιβάλλο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Μεταφορ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ιοίκ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"/>
            <a:ext cx="9144000" cy="11001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8920" y="304920"/>
            <a:ext cx="73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Υπηρεσίες Οικονομικού &amp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Κοινωνικού Ενδιαφέροντο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5120" y="1413000"/>
            <a:ext cx="7462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Απαιτήσεις για τη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Ανάπτυξη τ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Κοινωνίας της Πληροφορί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1844640"/>
            <a:ext cx="828036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Γρήγορες και Ασφαλής Υποδομές Τηλεπικοινωνιών και Δικτύων Μεταφοράς Δεδομένων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 – </a:t>
            </a: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υρυζωνικά Δίκτυ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σωτερική Δικτύωση Υπηρεσιών και Φορέ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ια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-</a:t>
            </a: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ικτύωση Φορέ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πένδυση στη δημιουργία υποδομών “βάση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Ολοκληρωμένα Πληροφοριακά Συστή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Γεωγραφικά Συστήματα Πληροφο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Μεταφορά στην ελληνική ή δημιουργία νέ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1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99cc"/>
                </a:solidFill>
                <a:latin typeface="Tahoma"/>
                <a:ea typeface="Arial"/>
              </a:rPr>
              <a:t>Λεξικών ιατρικών όρ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1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99cc"/>
                </a:solidFill>
                <a:latin typeface="Tahoma"/>
                <a:ea typeface="Arial"/>
              </a:rPr>
              <a:t>Λεξικών τεκμηρίων πολιτισμο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1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99cc"/>
                </a:solidFill>
                <a:latin typeface="Tahoma"/>
                <a:ea typeface="Arial"/>
              </a:rPr>
              <a:t>Αναγνώριση ελληνικής ομιλίας και γραφ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"/>
            <a:ext cx="9144000" cy="1171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171440"/>
              <a:gd name="textAreaBottom" fmla="*/ 1171800 h 11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1752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Απαιτήσεις για την Ανάπτυξη τη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Κοινωνίας των Πληροφοριώ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1916280"/>
            <a:ext cx="835344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Ενσωμάτωση της Κοινωνίας της Πληροφορίας στην καθημερινότητα και στις πολιτικές της Διοίκησης σε όλα τα επίπεδα, όχι όμως σαν μια τυπική υποχρέωσή μ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Ένταση Πληροφόρησης και Διάχυση τρόπων αξιοποίησης των δυνατοτήτων που προσφέρ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Συνεχής εκπαίδευση εργαζομένων στις νέες τεχνολογίες και προσπάθεια αλλαγής της τοπικής νοοτροπίας (άρνηση χρήσης και φόβο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Αναπροσαρμογή Νομοθεσίας για την προσφορά νέων υπηρεσιών στους τομείς Υγείας-Πρόνοιας, Παιδείας και Εμπορ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"/>
            <a:ext cx="9144000" cy="1171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171440"/>
              <a:gd name="textAreaBottom" fmla="*/ 1171800 h 11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1752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Απαιτήσεις για την Ανάπτυξη τη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Κοινωνίας των Πληροφοριώ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78920" y="1413000"/>
            <a:ext cx="69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Προτάσεις για την Ήπειρ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197000"/>
            <a:ext cx="849780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φαρμογή και χρήση των Ευρυζωνικών Δικτύων σε όλους τους φορείς της Διοίκησης και της Υγείας-Πρόνοιας, ακόμη και με ασύρματη σύνδε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ημιουργία Ολοκληρωμένων Πληροφοριακών Συστημάτων σε όλους τους φορεί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ια-δικτύωση Πληροφοριακών Συστημάτων Φορέ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νίσχυση της τηλε-συνεργασίας μεταξύ ομοειδών χρηστών (π.χ. Φορείς Διοίκησης, Φορείς Υγείας και Πρόνοια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υνεχή εκπαίδευση εργαζομέν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Τεχνική στήριξη όλων των φορέων με οργανωμένες διευθύνσεις πληροφορικ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12320" y="333360"/>
            <a:ext cx="79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Ανάπτυξη Βασικών Υποδομώ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1341360"/>
            <a:ext cx="83534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Αποτελούν τη βάση για την ανάπτυξη υπηρεσιών πληροφορικής που συμβάλλουν στη μείωση του χρόνου εξυπηρέτησης του πολίτη, προωθώντας τη συνεργασία μεταξύ των φορέ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Η διαθέσιμη πληροφορία μπορεί να είναι κατετμιμένη και να μην επαναλαμβάνεται σε κάθε φορέα από τον οποίο αιτούμαστε εξυπηρέτ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Παρέχουν μεταφορά φωνής, εικόνας, video, δηλαδή τηλεφωνία, video-φωνία, τηλεομοιοτυπία, τηλεδιάσκεψη πολλαπλών σημείων, τηλεοπτικά προγράμματα και τηλεκπαίδευση, τηλε-συνεργασία,  μεταξύ των διασυνδεδεμένων φορέ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90360" y="33336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Tahoma"/>
                <a:ea typeface="Arial"/>
              </a:rPr>
              <a:t>Γιατί Ευρυζωνικά Δίκτυα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152360"/>
            <a:ext cx="8496000" cy="558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Το πρόγραμμα “Σύζευξις” έχει σκοπό τη δημιουργία του Εθνικό Δικτύου Διοικητικών Υπηρεσιών προσφέροντας επικοινωνία φωνής, φαξ και δεδομένων μέσω ενιαίου δικτύ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Υποστηρίζει τηλεδιάσκεψη πολλαπλών σημείων και τηλεργασία μεταξύ των φορέων και προσφέρει εργαλείο συνεργασίας εργαζομένων για την διεκπεραίωση εργασιών με σκοπό την γρηγορότερη εξυπηρέτηση του πολί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ιαθέτει πύλη πληροφοριών για τον πολίτη και τον εργαζόμενο στον φορέα με επιλεγμένη πρόσβαση μέσω κινητού τηλεφώνου (G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υνοδεύεται από την κατάρτιση των εργαζομένων και την συνεχή διάθεση του υλικού στον εργαζόμεν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6280" y="333360"/>
            <a:ext cx="238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Tahoma"/>
                <a:ea typeface="Arial"/>
              </a:rPr>
              <a:t>Σύζευξ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97000"/>
            <a:ext cx="842472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κπαιδευτική Πύλη Ηπείρου – Συγκέντρωση και διάθεση εκπαιδευτικού υλικού σε μορφή που μπορεί να ξαναχρησιμοποιηθε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Τηλεοπτικά προγράμματα 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(</a:t>
            </a: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TV network boardcasting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)</a:t>
            </a: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, για τηλεκπαίδευση υπαλλήλων διοικητικών και άλλων υπηρεσιών, καθώς και του πολί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Τηλεϊατρικής για τα απομακρυσμένα κέντρα υγείας, τα ΚΑΠΗ και τα σχολεία πρωτοβάθμιας και δευτεροβάθμιας εκπαίδευ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Ανάπτυξη ηλεκτρονικών screening test για σχολεία και ΚΑΠΗ – προληπτική ιατρικ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12320" y="333360"/>
            <a:ext cx="72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Πιλοτική Εφαρμογή Έργω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197000"/>
            <a:ext cx="849780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ό Σύστημα Καταγραφής Λοιμώξεων στην περιοχή της Ηπείρου – Στατιστικά Στοιχεία – Σχεδιασμός προγραμμάτων πρόνο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Ανάπτυξη Περιφερειακού Γεωγραφικού Συστήματος Πληροφοριών για το Περιβάλλον και τον Πολιτισμ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Εντοπισμού Πυρκαγιών σε συνδυασμό με σύστημα αντιμετώπισης κρί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Παρακολούθησης Ποιότητας Υδάτινων Πόρ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Μέτρησης Περιβαλλοντικών Συνθηκών και αυτόματης ειδοποίησης ευαίσθητων ομάδων πληθυσμού για επικίνδυνες ατμοσφαιρικές συνθήκ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12320" y="333360"/>
            <a:ext cx="72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Πιλοτική Εφαρμογή Έργω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97000"/>
            <a:ext cx="856908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Παρακολούθησης Ατυχημάτων σε μεγάλους και μικρούς οδικούς άξο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ενημέρωσης διερχόμενων ταξιδιωτών για διαθέσιμες υπηρεσίες και αξιοθέ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υγκεντρωτική Πύλη Ενημέρωσης για τις ενέργειες που πραγματοποιούνται στην Περιφέρεια από όλους τους φορείς (One-stop-shop ενημέρωση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βδομάδα ενημέρωσης πολιτών για τις νέες τεχνολογίες με συνδυασμό διαφόρων μέσων και τρόπων επίδει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112320" y="333360"/>
            <a:ext cx="72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Πιλοτική Εφαρμογή Έργω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1557360"/>
            <a:ext cx="756144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Ο όρος έχει χωρική και χρονική διάστα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Αναφέρεται στην πρόσβαση των υπηρεσιώ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Από οποιοδήποτε σημεί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Με οποιονδήποτε τρόπ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Σε οποιαδήποτε χρονική στιγμ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ίνοντας έμφαση στη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Άμεση απόκρι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ύληπτη παρουσίαση και χρήση πληροφορ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ροσαρμογή της παρουσίασης στα χαρακτηριστικά του χρήστη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 (</a:t>
            </a: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ροσωποποίηση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 ή </a:t>
            </a: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ξατομίκευση</a:t>
            </a:r>
            <a:r>
              <a:rPr b="1" lang="en-US" sz="2000" spc="-1" strike="noStrike">
                <a:solidFill>
                  <a:srgbClr val="0099cc"/>
                </a:solidFill>
                <a:latin typeface="Tahoma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"/>
            <a:ext cx="9144000" cy="523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5520" y="304920"/>
            <a:ext cx="534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Προσπελασιμότητ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61480" y="1413000"/>
            <a:ext cx="7462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Η συμβολή τη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Κοινωνίας της Πληροφορί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στους τομεί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Οικονομικού &amp; κοινωνικο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ahoma"/>
                <a:ea typeface="Arial"/>
              </a:rPr>
              <a:t>ενδιαφέρον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97000"/>
            <a:ext cx="792180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κπαίδε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ξ’ αποστάσεως εκπαίδευση ή τηλε-εκπαίδευ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Συνεχιζόμενη Κατάρτι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μόρφωση, εύκολη συντήρηση και ανανέωση εκπαιδευτικού υλικ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Άμεση πρόσβαση σε άφθονο εκπαιδευτικό υλικ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ευκόλυνση στην ανάπτυξη συνεργασ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Έρευ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Άμεση πρόσβαση σε ερευνητικό υλικό σε παγκόσμιο επίπεδο (βιβλία, μελέτες, επιστημονικά περιοδικά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Υποστήριξη ερευνητικών διαδικασιών και μείωση κόστους διεξαγωγής ερευνητικών μελετ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Ανάπτυξη συνεργασ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"/>
            <a:ext cx="9144000" cy="523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99000" y="333360"/>
            <a:ext cx="40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ην Παιδεί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1268280"/>
            <a:ext cx="792144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Συνδυασμός χρήσης παραδοσιακών και σύγχρονων μέσων εκπαίδευσης μέσα στην τάξ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Αυτοδιδασκαλία με επιτήρ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Χρήση προγραμμάτων για τον εντοπισμό ελλείψεων και την καθοδή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ροσαρμογή του εκπαιδευτικού υλικού και του τρόπου παρουσίασής του στις ανάγκες και τα χαρακτηριστικά του κάθε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νσωμάτωση της χρήσης Υπολογιστών “Τσέπης” (PDA) κατά τη διδασκαλία για τον άμεσο έλέγχο γνώσεων και την άμεση αναπροσαρμογή του μαθή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παναχρησιμοποίηση διαθέσιμου υλικού για τη δημιουργία νέας εκπαιδευτικής ύλ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56600" y="333360"/>
            <a:ext cx="57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ύγχρονες εξελίξ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1125360"/>
            <a:ext cx="8137440" cy="55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Ολοκληρωμένο Πληροφοριακό Σύστη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Σύστημα Διαχείρισης Πληροφοριών – MIS (κίνηση ασθενών, εξετάσεις που πραγματοποιήθηκαν, φαρμακείο, εστιατόριο, οικονομικά στοιχεί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Ιατρικός και Νοσηλευτικός Φάκελος Ασθενού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ργαστηριακό Σύστημα Διαχείρισης - 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1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99cc"/>
                </a:solidFill>
                <a:latin typeface="Tahoma"/>
                <a:ea typeface="Arial"/>
              </a:rPr>
              <a:t>Απεικονιστικό Σύστημα (MRI, υπέρηχοι, ακτινογραφίε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1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99cc"/>
                </a:solidFill>
                <a:latin typeface="Tahoma"/>
                <a:ea typeface="Arial"/>
              </a:rPr>
              <a:t>Μη απεικονιστικό (αιματολογικές εξετάσει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ή Κάρτα Ασθεν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Προληπτική Ιατρικ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ροσυμπτωματικός έλεγχος (screening te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ρωτογενής Πρόληψ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πεμβατική Ιατρικ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κπαίδευση με συστήματα εικονικής πραγματικότητ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Υποστήριξη στον ιατρό κατά τη διάρκεια της επέμβ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"/>
            <a:ext cx="9144000" cy="523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7400" y="333360"/>
            <a:ext cx="62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ην Υγεία &amp; Πρόνο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1268280"/>
            <a:ext cx="813744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υφυή Διαγνωστικά Εργαλ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Ανάλυση Ιατρικών Σημάτων και Εντοπισμός πιθανών προβλημάτων (ECG, EMG, Μαστογραφίε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Έξυπνα Ιατρικά Συστήματα Ιατρικών Κανό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Τηλεϊατρικ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Απομακρυσμένη παρακολούθηση ασθενού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ό Σύστημα Καταγραφής Περιστατικών Λοιμώξεων και Επικίνδυνων Ασθενε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Στατιστ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Σχεδιασμός Αντιμετώπισης Επιδημιών/ Πανδημ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Πληροφόρηση Πολίτ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νυκτερεύσεις νοσοκομείων, φαρμακεί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Διαθεσιμότητα ειδικοτή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Ενδονοσοκομειακά συστήματα καθοδήγ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7400" y="333360"/>
            <a:ext cx="62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την Υγεία &amp; Πρόνο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1152360"/>
            <a:ext cx="7921440" cy="558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Διασύνδεση Πληροφοριακών Συστημάτων Μονάδων Παροχής Υπηρεσιών Υγε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Μεταφορά φακέλων ασθενών όποτε και όταν χρειαστε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νδονοσοκομειακή Ασύρματη Δικτύωσ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Άμεση μεταφορά και καταγραφή καθημερινών μετρήσεων ασθεν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Ηλεκτρονικό Φύλλο Παρακολούθησης Ασθενούς και χρήση υπολογιστή “τσέπης” από τον ιατρό παρακολούθη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Παρακολούθηση από το σπίτι (homemonito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Χρόνιες παθ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Παθήσεις που απαιτούν μεγάλο διάστημα θεραπε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cc"/>
                </a:solidFill>
                <a:latin typeface="Tahoma"/>
                <a:ea typeface="Arial"/>
              </a:rPr>
              <a:t>Εξατομικευμένη προληπτική ιατρική και παρακολούθ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77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cc"/>
                </a:solidFill>
                <a:latin typeface="Tahoma"/>
                <a:ea typeface="Arial"/>
              </a:rPr>
              <a:t>Χρήση πληροφοριών για το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"/>
            <a:ext cx="9144000" cy="595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56600" y="333360"/>
            <a:ext cx="57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…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σύγχρονες εξελίξ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50:34Z</dcterms:created>
  <dc:creator>uoi</dc:creator>
  <dc:description/>
  <dc:language>en-US</dc:language>
  <cp:lastModifiedBy>DINA</cp:lastModifiedBy>
  <dcterms:modified xsi:type="dcterms:W3CDTF">2005-06-21T12:38:45Z</dcterms:modified>
  <cp:revision>31</cp:revision>
  <dc:subject/>
  <dc:title>Διαφάνεια 1</dc:title>
</cp:coreProperties>
</file>