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232-223A-493F-9CBF-9DBC83D0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1D6-7A94-4C61-BBA4-121FA012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8DB-7C98-434D-84E0-259AE8F2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DE3-6018-43A5-B273-73A27839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DFD-30F7-4468-9144-E8390389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3AB0-FEC1-4A5F-B1BE-F145D05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F1F8-48EC-4619-BAE5-B6CB21E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47E6-5CE7-4602-B915-917D7A0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800-59FE-4C25-8780-1B3FFC4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1B1-20A7-4475-A66A-C4E37199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9D1B-0F0C-416F-B717-7532AE7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444-0F0C-44CC-B7AC-81941EE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7667-D60F-4D5C-91DA-A517F93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4937-25FA-4504-BCA0-6CE9786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AD9B-65B1-4C3C-80D5-2D0726E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1E79-471F-435B-BA74-07A0B4C0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3F5C-4F37-48CA-A01A-61A8FB55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C4E-0ABE-477A-89DD-397CC6E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553-E847-45EE-8E13-CA87C67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3AE-8EBF-4A91-8CD1-243269E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C64-0952-469C-B604-119A5DE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2DC-CC60-411C-9F06-7B0B2EBA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2A3-2E4F-497E-8D49-017B53A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A61-2FA0-460B-A9A9-F97D36A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8E43-EC0D-4FA0-B9E5-518CFED48D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B4C1-0163-4BCB-A15E-71A3A440D3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5400" spc="-1" strike="noStrike">
                <a:solidFill>
                  <a:srgbClr val="000000"/>
                </a:solidFill>
                <a:latin typeface="Arial"/>
              </a:rPr>
              <a:t>ΑΝΑΠΤΥΞΗ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l-GR" sz="5400" spc="-1" strike="noStrike">
                <a:solidFill>
                  <a:srgbClr val="000000"/>
                </a:solidFill>
                <a:latin typeface="Arial"/>
              </a:rPr>
              <a:t>ΓΡΟΤΙΚΟΥ ΧΩΡΟ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280" y="3357720"/>
            <a:ext cx="8007480" cy="1519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Εισαγωγή στο θέμα ,για το Αναπτυξιακό Συνέδριο Ηπείρου  24/6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ΕΠΙΛΟΓΗ ΣΤΡΑΤΗΓΙΚΩΝ ΣΤΟΧΩΝ ΕΠΙΛΥΣΗΣ ΚΥΡΙΩΝ ΠΡΟΒΛΗΜΑΤΩΝ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αβάθμιση της ανταγωνιστικότητας των γεωργικών εκμεταλλεύσεων, Συνέχιση της στήριξης πρωτοβουλιών για ανάληψη από ειδικές κοινωνικές ομάδες αγροτικών δραστηριοτήτων  (νέοι αγρότες, γυναίκες) για ανανέωση του γεωργικού πληθυσμ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έχιση εφαρμογής προγραμμάτων ολοκληρωμένου χαρακτήρ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ώθηση θεματικών προγραμμάτων ανάπτυξη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τήρηση και βελτίωση του περιβάλλοντος του αγροτικού τοπίου και των φυσικών πόρων της υπαίθρο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φαρμογή ολοκληρωμένων γεωργοπεριβαλλοντικών προγραμμάτων και φιλοπεριβαλλοντικών τεχνικών παραγωγ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λοποίηση μικρών δημόσιων επενδύσεων που θα συμβάλλουν στην διατήρηση της αγροτικής και πολιτιστικής κληρονομι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ΕΠΙΛΟΓΗ ΜΕΣΩΝ ΚΑΙ ΔΡΑΣΕΩΝ ΓΙΑ ΤΗΝ ΕΠΙΤΕΥΞΗ ΣΤΡΑΤΗΓΙΚΩΝ ΣΤΟΧΩΝ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πό τα συμπεράσματα της ομάδας εργασία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Στο Αναπτυξιακό Συνέδριο της  Ηπείρο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η ανάπτυξη του αγροτικού χώρο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είναι μία από τις πέντε θεματικές ενότητες που αναπτύσσονται και σηματοδοτεί την σπουδαιότητα που ο τομέας παραμένει να έχει για την Περιφέρειά μα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ΔΙΕΘΝΕΣ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ροσαρμογή των πολιτικών των κρατών μελών του οργανισμού προς την ελεύθερη αγορ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τάργηση όλων των επιδοτή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τοχύρωσης των προϊόντων πιστοποιημένης ποιότητ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νακατανομή της παγκόσμιας παραγωγής, με βάση το συγκριτικό πλεονέκτημα κάθε χώρα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26720" y="32457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ΥΡΩΠΑΪΚΟ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αμορφώνεται κάτω από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ις διαπραγματεύσεις του ΠΟ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ην λειτουργία της νέας ενιαίας ευρωπαϊκής αγοράς των 25 κρατών μελ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η λειτουργία των κοινών οργανώσεων αγοράς (ΚΟΑ) για κάθε γεωργικό προϊόν ή ομάδα προϊόντω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νομοθετικό πλαίσιο της νέας ΚΑ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ΥΡΩΠΑΪΚΟ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κίνδυνοι και απειλές που θα προκύψουν είν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 αυξανόμενος παγκόσμιος ανταγωνισμ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αναμενόμενη, τα επόμενα χρόνια, εμφάνιση στη διεθνή αγορά, αγροτικών προϊόντων νέων παραγωγικών δυνάμ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πίεση που ασκείται για πλήρη απελευθέρωση των αγορών και κατάργηση των ενισχύσε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 πραγματοποιηθείσα διεύρυνση της Ευρωπαϊκής Ένωσης, προς χώρες με έντονο γεωργικό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ΘΝΙ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Νέες ευκαιρίε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αυξανόμενη τάση της διεθνούς αγοράς στη ζήτηση ποιοτικών και ασφαλών αγροτικών προϊόντ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απελευθέρωση της διεθνούς αγοράς και η παρεχόμενη δυνατότητα πρόσβασης Ελληνικών γεωργικών προϊόντων με συγκριτικό πλεονέκτημα σε νέες αγορέ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μεγέθυνση της εσωτερικής αγοράς της ΕΕ με την είσοδο των δέκα νέων Κρατών-Μελών της πρόσφατης διεύρυνσης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διασφάλιση της συνέχισης της πολιτικής της ΕΕ για την ανάπτυξη της υπαίθρου κ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παρεχόμενη δυνατότητα συμμετοχής της Ηπείρου, στο νέο πρόγραμμα για τη Συνοχή των Περιφερειών της ΕΕ κυρίως στο στόχο «σύγκληση αλλά και στο στόχο «ευρωπαϊκή εδαφική συνεργασία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υνατά σημεία της περιφέρειας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γεωργικό παραγωγικό μοντέλο του οικογενειακού τύπου γεωργικής εκμετάλλευσης προσφέρεται για την παραγωγή προϊόντων ποιότητας (βιολογικών, ολοκληρωμένης διαχείρισης παραγωγής, παραδοσιακών τοπικών προϊόντω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ιδιαίτερα σημαντικό ενδιαφέρον που εκδηλώθηκε κατά την Γ΄ Προγραμματική Περίοδο, από το γεωργικό επενδυτικό κοινό Υπαίθρου για το σύνολο των Επιχειρησιακών Προγραμμάτων (ΕΠΑΑ-ΑΥ, ΠΕ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Ύπαρξη αρκετών περιοχών ιδιαίτερου κάλλους και σημαντική αγροτική παράδοση λαογραφικός πλούτος και αρχιτεκτονική κληρονομιά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οιότητα και το ευπροσάρμοστο προς τις νέες τεχνολογίες ανθρώπινο δυναμικ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ιαρθρωτικές Αδυναμίες της περιοχή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 προσανατολισμός του πρωτογενή τομέα προς μη ανταγωνιστικές καλλιέργειε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ηλικιακή διάρθρωση των απασχολούμενων στον πρωτογενή τομέ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 έλλειψη των αναγκαίων εγγειοβελτιωτικών υποδομών, κυρίως στη πεδιάδα της Άρτας και της Πρέβεζα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μικρό μέγεθος των εκμεταλλεύ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μεγάλο μέγεθος του αγροτικού πληθυσμο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αρθρωτικές Αδυναμίες της περιοχ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ψηλό κόστος παραγωγής προϊόν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ρχρεωμένες εκμεταλλεύ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δοπεριφερειακές ανισότητ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νεπαρκής επαγγελματική κατάρτιση των γεωργ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παξιωτική  αντιμετώπιση του γεωργικού επαγγέλματος, ιδιαίτερα του κτηνοτρόφου , από την τοπική κοινων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βάρυνση του φυσικού περιβάλλοντος με ρύπους γεωργικής προέλε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0:40:20Z</dcterms:created>
  <dc:creator>elenroku</dc:creator>
  <dc:description/>
  <dc:language>en-US</dc:language>
  <cp:lastModifiedBy>elenroku</cp:lastModifiedBy>
  <dcterms:modified xsi:type="dcterms:W3CDTF">2005-06-23T13:02:38Z</dcterms:modified>
  <cp:revision>3</cp:revision>
  <dc:subject/>
  <dc:title>ΑΝΑΠΤΥΞΗ AΓΡΟΤΙΚΟΥ ΧΩΡ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9935728</vt:r8>
  </property>
  <property fmtid="{D5CDD505-2E9C-101B-9397-08002B2CF9AE}" pid="3" name="_AuthorEmail">
    <vt:lpwstr>erokkou@mou.gr</vt:lpwstr>
  </property>
  <property fmtid="{D5CDD505-2E9C-101B-9397-08002B2CF9AE}" pid="4" name="_AuthorEmailDisplayName">
    <vt:lpwstr>ΡΟΚΚΟΥ ΕΛΕΝΗ</vt:lpwstr>
  </property>
  <property fmtid="{D5CDD505-2E9C-101B-9397-08002B2CF9AE}" pid="5" name="_EmailSubject">
    <vt:lpwstr/>
  </property>
</Properties>
</file>