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672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67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b5249"/>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041480" y="762120"/>
            <a:ext cx="4775040" cy="3581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move the slide</a:t>
            </a:r>
            <a:endParaRPr b="0" lang="en-US" sz="4400" spc="-1" strike="noStrike">
              <a:solidFill>
                <a:srgbClr val="2a3d7a"/>
              </a:solidFill>
              <a:latin typeface="Times New Roman"/>
            </a:endParaRPr>
          </a:p>
        </p:txBody>
      </p:sp>
      <p:sp>
        <p:nvSpPr>
          <p:cNvPr id="94" name="PlaceHolder 4"/>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922032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5840" y="922032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9E3C0-CAC5-4CF1-8F6B-062BF0EB6A2E}"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041480" y="762120"/>
            <a:ext cx="4775040" cy="3581280"/>
          </a:xfrm>
          <a:prstGeom prst="rect">
            <a:avLst/>
          </a:prstGeom>
          <a:ln w="0">
            <a:noFill/>
          </a:ln>
        </p:spPr>
      </p:sp>
      <p:sp>
        <p:nvSpPr>
          <p:cNvPr id="112" name="PlaceHolder 2"/>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Μια σύντομη εισαγωγή στα θέματα που θα αναπτυχθούν στην θεματική ενότητα </a:t>
            </a:r>
            <a:r>
              <a:rPr b="1" i="1" lang="el-GR" sz="1400" spc="-1" strike="noStrike" u="sng">
                <a:solidFill>
                  <a:srgbClr val="000000"/>
                </a:solidFill>
                <a:uFillTx/>
                <a:latin typeface="Times New Roman"/>
              </a:rPr>
              <a:t>ΑΝΑΒΑΘΜΙΣΗ ΚΑΙ ΠΡΟΣΤΑΣΙΑ ΤΟΥ ΠΕΡΙΒΑΛΛΟΝΤΟΣ </a:t>
            </a:r>
            <a:r>
              <a:rPr b="1" i="1" lang="en-US" sz="1400" spc="-1" strike="noStrike" u="sng">
                <a:solidFill>
                  <a:srgbClr val="000000"/>
                </a:solidFill>
                <a:uFillTx/>
                <a:latin typeface="Times New Roman"/>
              </a:rPr>
              <a:t> - </a:t>
            </a:r>
            <a:r>
              <a:rPr b="1" i="1" lang="el-GR" sz="1400" spc="-1" strike="noStrike" u="sng">
                <a:solidFill>
                  <a:srgbClr val="000000"/>
                </a:solidFill>
                <a:uFillTx/>
                <a:latin typeface="Times New Roman"/>
              </a:rPr>
              <a:t> ΠΡΟΛΗΨΗ ΚΙΝΔΥΝΩΝ</a:t>
            </a: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041480" y="762120"/>
            <a:ext cx="4775040" cy="3581280"/>
          </a:xfrm>
          <a:prstGeom prst="rect">
            <a:avLst/>
          </a:prstGeom>
          <a:ln w="0">
            <a:noFill/>
          </a:ln>
        </p:spPr>
      </p:sp>
      <p:sp>
        <p:nvSpPr>
          <p:cNvPr id="114" name="PlaceHolder 2"/>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αναθεώρηση της πολιτικής για την συνοχή της Ευρωπαϊκής Ένωσης  που αφορά την περίοδο 2007-2013  αποτυπώνεται σε σχέδια Κανονισμών, σύμφωνα με τα οποία οι τρείς στόχοι προτεραιότητας των διαρθρωτικών ταμείων είναι:</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Η σύγκλιση</a:t>
            </a:r>
            <a:r>
              <a:rPr b="0" lang="el-GR" sz="1200" spc="-1" strike="noStrike">
                <a:solidFill>
                  <a:srgbClr val="000000"/>
                </a:solidFill>
                <a:latin typeface="Times New Roman"/>
              </a:rPr>
              <a:t> ,</a:t>
            </a:r>
            <a:r>
              <a:rPr b="0" lang="en-US" sz="1200" spc="-1" strike="noStrike">
                <a:solidFill>
                  <a:srgbClr val="000000"/>
                </a:solidFill>
                <a:latin typeface="Times New Roman"/>
              </a:rPr>
              <a:t> </a:t>
            </a:r>
            <a:r>
              <a:rPr b="0" lang="el-GR" sz="1200" spc="-1" strike="noStrike">
                <a:solidFill>
                  <a:srgbClr val="000000"/>
                </a:solidFill>
                <a:latin typeface="Times New Roman"/>
              </a:rPr>
              <a:t>οικονομική σύγκλιση των λιγότερο αναπτυγμένων περιφερειών</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t>
            </a:r>
            <a:r>
              <a:rPr b="1" lang="el-GR" sz="1200" spc="-1" strike="noStrike">
                <a:solidFill>
                  <a:srgbClr val="000000"/>
                </a:solidFill>
                <a:latin typeface="Times New Roman"/>
              </a:rPr>
              <a:t> περιφερειακή ανταγωνιστικότητα και απασχόληση</a:t>
            </a:r>
            <a:r>
              <a:rPr b="0" lang="el-GR" sz="1200" spc="-1" strike="noStrike">
                <a:solidFill>
                  <a:srgbClr val="000000"/>
                </a:solidFill>
                <a:latin typeface="Times New Roman"/>
              </a:rPr>
              <a:t>,</a:t>
            </a:r>
            <a:r>
              <a:rPr b="0" lang="en-US" sz="1200" spc="-1" strike="noStrike">
                <a:solidFill>
                  <a:srgbClr val="000000"/>
                </a:solidFill>
                <a:latin typeface="Times New Roman"/>
              </a:rPr>
              <a:t> </a:t>
            </a:r>
            <a:r>
              <a:rPr b="0" lang="el-GR" sz="1200" spc="-1" strike="noStrike">
                <a:solidFill>
                  <a:srgbClr val="000000"/>
                </a:solidFill>
                <a:latin typeface="Times New Roman"/>
              </a:rPr>
              <a:t>ενίσχυση της ανταγωνιστικότητας και ελκυστικότητας των περιφερειών, προβλέποντας οικονομικές και κοινωνικές αλλαγές</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t>
            </a:r>
            <a:r>
              <a:rPr b="1" lang="el-GR" sz="1200" spc="-1" strike="noStrike">
                <a:solidFill>
                  <a:srgbClr val="000000"/>
                </a:solidFill>
                <a:latin typeface="Times New Roman"/>
              </a:rPr>
              <a:t> ευρωπαϊκή εδαφική συνεργασία,</a:t>
            </a:r>
            <a:r>
              <a:rPr b="0" lang="en-US" sz="1200" spc="-1" strike="noStrike">
                <a:solidFill>
                  <a:srgbClr val="000000"/>
                </a:solidFill>
                <a:latin typeface="Times New Roman"/>
              </a:rPr>
              <a:t> </a:t>
            </a:r>
            <a:r>
              <a:rPr b="0" lang="el-GR" sz="1200" spc="-1" strike="noStrike">
                <a:solidFill>
                  <a:srgbClr val="000000"/>
                </a:solidFill>
                <a:latin typeface="Times New Roman"/>
              </a:rPr>
              <a:t>ενδυνάμωση της συνεργασίας σε τρία επίπεδα –διακρατική, διασυνοριακή ,διαπεριφερειακή)</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Ήπειρος εντάσσεται κυρίως στο στόχο </a:t>
            </a:r>
            <a:r>
              <a:rPr b="1" lang="el-GR" sz="1200" spc="-1" strike="noStrike">
                <a:solidFill>
                  <a:srgbClr val="000000"/>
                </a:solidFill>
                <a:latin typeface="Times New Roman"/>
              </a:rPr>
              <a:t>σύγκλιση</a:t>
            </a:r>
            <a:r>
              <a:rPr b="0" lang="el-GR" sz="1200" spc="-1" strike="noStrike">
                <a:solidFill>
                  <a:srgbClr val="000000"/>
                </a:solidFill>
                <a:latin typeface="Times New Roman"/>
              </a:rPr>
              <a:t>  αλλά και στο στόχο </a:t>
            </a:r>
            <a:r>
              <a:rPr b="1" lang="el-GR" sz="1200" spc="-1" strike="noStrike">
                <a:solidFill>
                  <a:srgbClr val="000000"/>
                </a:solidFill>
                <a:latin typeface="Times New Roman"/>
              </a:rPr>
              <a:t>ευρωπαϊκή εδαφική συνεργασία</a:t>
            </a:r>
            <a:r>
              <a:rPr b="0" lang="el-GR" sz="1200" spc="-1" strike="noStrike">
                <a:solidFill>
                  <a:srgbClr val="000000"/>
                </a:solidFill>
                <a:latin typeface="Times New Roman"/>
              </a:rPr>
              <a:t>  με σκοπό την επιτάχυνση της αναπτυξιακής της πορείας  για την  επόμενη προγραμματική περίοδο</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041480" y="762120"/>
            <a:ext cx="4775040" cy="3581280"/>
          </a:xfrm>
          <a:prstGeom prst="rect">
            <a:avLst/>
          </a:prstGeom>
          <a:ln w="0">
            <a:noFill/>
          </a:ln>
        </p:spPr>
      </p:sp>
      <p:sp>
        <p:nvSpPr>
          <p:cNvPr id="116" name="PlaceHolder 2"/>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000000"/>
                </a:solidFill>
                <a:latin typeface="Times New Roman"/>
              </a:rPr>
              <a:t>Η αποτίμηση των αποτελεσμάτων των μέχρι τώρα παρεμβάσεων καθόρισαν τους στρατηγικούς στόχους – άξονες για τη νέα προγραμματική περίοδο</a:t>
            </a:r>
            <a:r>
              <a:rPr b="0" lang="el-GR" sz="900" spc="-1" strike="noStrike">
                <a:solidFill>
                  <a:srgbClr val="000000"/>
                </a:solidFill>
                <a:latin typeface="Times New Roman"/>
              </a:rPr>
              <a:t>.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Times New Roman"/>
              </a:rPr>
              <a:t>Το περιβάλλον αξιολογείται ως τρίτη προτεραιότητα και αναφέρεται στον Άξονα ανάπτυξης «Αναβάθμιση και προστασία του περιβάλλοντος και πρόληψη κινδύνων»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Times New Roman"/>
              </a:rPr>
              <a:t>Αποτιμώντας τις περιβαλλοντικές δράσεις που υλοποιήθηκαν με χρηματοδότηση των διαρθρωτικών ταμείων κυρίως , θα επισημαίναμε ότι:</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Times New Roman"/>
              </a:rPr>
              <a:t>Αναφορικά με τις </a:t>
            </a:r>
            <a:r>
              <a:rPr b="1" i="1" lang="el-GR" sz="900" spc="-1" strike="noStrike">
                <a:solidFill>
                  <a:srgbClr val="000000"/>
                </a:solidFill>
                <a:latin typeface="Times New Roman"/>
              </a:rPr>
              <a:t>δράσεις του  δομημένου περιβάλλοντος</a:t>
            </a:r>
            <a:r>
              <a:rPr b="1" lang="el-GR" sz="900" spc="-1" strike="noStrike">
                <a:solidFill>
                  <a:srgbClr val="000000"/>
                </a:solidFill>
                <a:latin typeface="Times New Roman"/>
              </a:rPr>
              <a:t>,</a:t>
            </a:r>
            <a:r>
              <a:rPr b="0" lang="el-GR" sz="900" spc="-1" strike="noStrike">
                <a:solidFill>
                  <a:srgbClr val="000000"/>
                </a:solidFill>
                <a:latin typeface="Times New Roman"/>
              </a:rPr>
              <a:t> Έχει εγκριθεί η Μελέτη Χωροταξικού Σχεδίου της Περιφέρειας Ηπείρου και έχουν υλοποιηθεί τα Χωροταξικά Σχέδια των τεσσάρων Νομών. Επίσης  υλοποιούνται   πολεοδομικές και χωροταξικές μελέτες , κυρίως ΣΧΟΟΑΠ ή Γενικά Πολεοδομικά Σχέδια , σύμφωνα με τις προτεραιότητες του Χωροταξικού της Περιφέρειας .</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Times New Roman"/>
              </a:rPr>
              <a:t>Οσον αφορά την </a:t>
            </a:r>
            <a:r>
              <a:rPr b="1" i="1" lang="el-GR" sz="900" spc="-1" strike="noStrike">
                <a:solidFill>
                  <a:srgbClr val="000000"/>
                </a:solidFill>
                <a:latin typeface="Times New Roman"/>
              </a:rPr>
              <a:t>διαχείριση των στερεών αποβλήτων</a:t>
            </a:r>
            <a:r>
              <a:rPr b="0" i="1" lang="el-GR" sz="900" spc="-1" strike="noStrike">
                <a:solidFill>
                  <a:srgbClr val="000000"/>
                </a:solidFill>
                <a:latin typeface="Times New Roman"/>
              </a:rPr>
              <a:t> </a:t>
            </a:r>
            <a:r>
              <a:rPr b="0" lang="el-GR" sz="900" spc="-1" strike="noStrike">
                <a:solidFill>
                  <a:srgbClr val="000000"/>
                </a:solidFill>
                <a:latin typeface="Times New Roman"/>
              </a:rPr>
              <a:t>Έχει ολοκληρωθεί ο περιφερειακός σχεδιασμός , και  από τις δράσεις του Γ ΚΠΣ και του Ταμείου Συνοχής  αναμένεται να καταστούν λειτουργικοί οι υπάρχοντες ΧΥΤΑ και να κατασκευαστούν οι εναπομείναντες, ώστε να ολοκληρωθεί και να λειτουργήσει το σύστημα της διαχείρισης.</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000000"/>
                </a:solidFill>
                <a:latin typeface="Times New Roman"/>
              </a:rPr>
              <a:t>Η</a:t>
            </a:r>
            <a:r>
              <a:rPr b="1" i="1" lang="el-GR" sz="900" spc="-1" strike="noStrike">
                <a:solidFill>
                  <a:srgbClr val="000000"/>
                </a:solidFill>
                <a:latin typeface="Times New Roman"/>
              </a:rPr>
              <a:t> διαχείριση των υγρών αποβλήτων</a:t>
            </a:r>
            <a:r>
              <a:rPr b="0" lang="el-GR" sz="900" spc="-1" strike="noStrike">
                <a:solidFill>
                  <a:srgbClr val="000000"/>
                </a:solidFill>
                <a:latin typeface="Times New Roman"/>
              </a:rPr>
              <a:t> ,υλοποιείται μέσω χρηματοδοτήσεων, κυρίως του Ταμείου Συνοχής και του Περιφερειακού Ταμείου Ανάπτυξης (ΕΤΠΑ). Έχουν κατασκευασθεί και</a:t>
            </a:r>
            <a:r>
              <a:rPr b="0" lang="en-US" sz="900" spc="-1" strike="noStrike">
                <a:solidFill>
                  <a:srgbClr val="000000"/>
                </a:solidFill>
                <a:latin typeface="Times New Roman"/>
              </a:rPr>
              <a:t> </a:t>
            </a:r>
            <a:r>
              <a:rPr b="0" lang="el-GR" sz="900" spc="-1" strike="noStrike">
                <a:solidFill>
                  <a:srgbClr val="000000"/>
                </a:solidFill>
                <a:latin typeface="Times New Roman"/>
              </a:rPr>
              <a:t>λειτουργούν με πολύ καλά αποτελέσματα εγκαταστάσεις επεξεργασίας λυμάτων  και συνεχίζουν να κατασκευάζονται νέες μονάδες αλλά και δίκτυα αποχέτευσης σε αρκετές περιοχές.</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Times New Roman"/>
              </a:rPr>
              <a:t>Στον τομέα της</a:t>
            </a:r>
            <a:r>
              <a:rPr b="1" i="1" lang="el-GR" sz="900" spc="-1" strike="noStrike">
                <a:solidFill>
                  <a:srgbClr val="000000"/>
                </a:solidFill>
                <a:latin typeface="Times New Roman"/>
              </a:rPr>
              <a:t> ύδρευσης </a:t>
            </a:r>
            <a:r>
              <a:rPr b="0" lang="el-GR" sz="900" spc="-1" strike="noStrike">
                <a:solidFill>
                  <a:srgbClr val="000000"/>
                </a:solidFill>
                <a:latin typeface="Times New Roman"/>
              </a:rPr>
              <a:t>παρότι το δίκτυο εκσυγχρονίζεται και επεκτείνεται συνεχώς , υπολείπονται ακόμη αρκετά έργα ώστε να φθάσουμε στο επιθυμητό αποτέλεσμα.</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Times New Roman"/>
              </a:rPr>
              <a:t>Όσον αφορά το </a:t>
            </a:r>
            <a:r>
              <a:rPr b="1" i="1" lang="el-GR" sz="900" spc="-1" strike="noStrike">
                <a:solidFill>
                  <a:srgbClr val="000000"/>
                </a:solidFill>
                <a:latin typeface="Times New Roman"/>
              </a:rPr>
              <a:t>φυσικό περιβάλλον</a:t>
            </a:r>
            <a:r>
              <a:rPr b="1" lang="el-GR" sz="900" spc="-1" strike="noStrike">
                <a:solidFill>
                  <a:srgbClr val="000000"/>
                </a:solidFill>
                <a:latin typeface="Times New Roman"/>
              </a:rPr>
              <a:t>,</a:t>
            </a:r>
            <a:r>
              <a:rPr b="0" lang="el-GR" sz="900" spc="-1" strike="noStrike">
                <a:solidFill>
                  <a:srgbClr val="000000"/>
                </a:solidFill>
                <a:latin typeface="Times New Roman"/>
              </a:rPr>
              <a:t> στην Ήπειρο υπάρχει σημαντικός αριθμός αξιόλογων φυσικών οικοσυστημάτων περιοχών που προστατεύονται ήδη με θεσμικό πλαίσιο, είτε βρίσκεται σε εξέλιξη η διαδικασία θεσμοθέτησης μέτρων προστασίας .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Times New Roman"/>
              </a:rPr>
              <a:t>Το ποσοστό των έργων, που έχουν ενταχθεί μέχρι σήμερα στο πλαίσιο του Γ ΚΠΣ &amp; Ταμείου Συνοχής ΙΙ για την αναβάθμιση και προστασία του περιβάλλοντος, ανέρχεται στο 6,7% του συνολικού ποσού που έχει διατεθεί για την Ήπειρο.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900" spc="-1" strike="noStrike">
                <a:solidFill>
                  <a:srgbClr val="000000"/>
                </a:solidFill>
                <a:latin typeface="Times New Roman"/>
              </a:rPr>
              <a:t>Στον τομέα της ενέργειας</a:t>
            </a:r>
            <a:r>
              <a:rPr b="0" lang="el-GR" sz="900" spc="-1" strike="noStrike">
                <a:solidFill>
                  <a:srgbClr val="000000"/>
                </a:solidFill>
                <a:latin typeface="Times New Roman"/>
              </a:rPr>
              <a:t> και όσον αφορά τις ανανεώσιμες πηγές ενέργειας  η πρόοδος που έχει πραγματοποιηθεί είναι μηδαμινή.</a:t>
            </a:r>
            <a:endParaRPr b="0" lang="en-US" sz="9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041480" y="762120"/>
            <a:ext cx="4775040" cy="3581280"/>
          </a:xfrm>
          <a:prstGeom prst="rect">
            <a:avLst/>
          </a:prstGeom>
          <a:ln w="0">
            <a:noFill/>
          </a:ln>
        </p:spPr>
      </p:sp>
      <p:sp>
        <p:nvSpPr>
          <p:cNvPr id="118" name="PlaceHolder 2"/>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Το περιβάλλον αποτελεί ένα από τα συγκριτικά πλεονεκτήματα της Περιφέρειας</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Σαν  Δυνατά σημεία μπορούμε να προσδιορίσουμε:</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Την  ύπαρξη σημαντικού σε μέγεθος και ποικιλία οικολογικού πλούτου καθώς και ιδιαίτερα αξιόλογων φυσικών οικοσυστημάτων. Μόνο οι περιοχές που περιλαμβάνονται στον Εθνικό Κατάλογο </a:t>
            </a:r>
            <a:r>
              <a:rPr b="0" lang="en-US" sz="1000" spc="-1" strike="noStrike">
                <a:solidFill>
                  <a:srgbClr val="000000"/>
                </a:solidFill>
                <a:latin typeface="Times New Roman"/>
              </a:rPr>
              <a:t>NATURA</a:t>
            </a:r>
            <a:r>
              <a:rPr b="0" lang="el-GR" sz="1000" spc="-1" strike="noStrike">
                <a:solidFill>
                  <a:srgbClr val="000000"/>
                </a:solidFill>
                <a:latin typeface="Times New Roman"/>
              </a:rPr>
              <a:t> 2000 καταλαμβάνουν το 28% της συνολικής έκτασης της Περιφέρειας. Επίσης αισθητικά δάση, μνημεία της φύσης  και τοπία ιδιαίτερου φυσικού κάλλους στα ορεινά και στις παράκτιες περιοχές αυξάνουν την οικολογική αξία του φυσικού περιβάλλοντος της Ηπείρου. Μέσα σ αυτά τα δασικά οικοσυστήματα αναπτύσσουν λειτουργίες  παραγωγικές , προστατευτικές  και κοινωνικοπολιτικές.</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 Το δομημένο περιβάλλον της Ηπείρου με τους παραδοσιακούς οικισμούς σε συνδυασμό με τα πολιτιστικά και πολιτισμικά στοιχεία  και το φυσικό περιβάλλον, δημιουργεί προϋποθέσεις τουριστικής ανάπτυξης της περιοχής.</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Την εκπόνηση Ειδικών Περιβαλλοντικών Μελετών για προστατευόμενες περιοχές του Δικτύου </a:t>
            </a:r>
            <a:r>
              <a:rPr b="0" lang="en-US" sz="1000" spc="-1" strike="noStrike">
                <a:solidFill>
                  <a:srgbClr val="000000"/>
                </a:solidFill>
                <a:latin typeface="Times New Roman"/>
              </a:rPr>
              <a:t>Natura</a:t>
            </a:r>
            <a:r>
              <a:rPr b="0" lang="el-GR" sz="1000" spc="-1" strike="noStrike">
                <a:solidFill>
                  <a:srgbClr val="000000"/>
                </a:solidFill>
                <a:latin typeface="Times New Roman"/>
              </a:rPr>
              <a:t> 2000, τη θεσμοθέτηση μέτρων προστασίας,  και τη σύσταση των αντίστοιχων φορέων διαχείρισης, προστασίας και ανάδειξης αυτών.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 Τους πλούσιους και καλής ποιότητας υδατικούς πόρους,  η ορθολογική εκμετάλλευση των οποίων έχει μεγάλη σημασία για την ανάπτυξη της Περιφέρειας.</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 Την ύπαρξη αξιοποιήσιμου δυναμικού ανανεώσιμων πηγών ενέργειας</a:t>
            </a:r>
            <a:r>
              <a:rPr b="1" i="1" lang="el-GR" sz="1000" spc="-1" strike="noStrike" u="sng">
                <a:solidFill>
                  <a:srgbClr val="000000"/>
                </a:solidFill>
                <a:uFillTx/>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 Την ύπαρξη εγκεκριμένου χωροταξικού σχεδίου, η εφαρμογή του οποίου θα οδηγήσει στην ορθολογική κατανομή των δραστηριοτήτων στο χώρο, με όρους αειφορίας, προστασίας και αναβάθμισης του περιβάλλοντος</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Την ύπαρξη εγκεκριμένου περιφερειακού σχεδιασμού για τη διαχείριση των στερεών αποβλήτων.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Την διαδικασία περιβαλλοντικής αδειοδότησης έργων και δραστηριοτήτων, η οποία αναπτύχθηκε την τελευταία δεκαετία ,σύμφωνα με τις ευρωπαϊκές οδηγίες και την Εθνική νομοθεσία ,  και έχει συμβάλλει σημαντικά στη διατήρηση του αξιόλογου φυσικού περιβάλλοντος της περιοχής.</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041480" y="762120"/>
            <a:ext cx="4775040" cy="3581280"/>
          </a:xfrm>
          <a:prstGeom prst="rect">
            <a:avLst/>
          </a:prstGeom>
          <a:ln w="0">
            <a:noFill/>
          </a:ln>
        </p:spPr>
      </p:sp>
      <p:sp>
        <p:nvSpPr>
          <p:cNvPr id="120" name="PlaceHolder 2"/>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 </a:t>
            </a:r>
            <a:r>
              <a:rPr b="1" lang="el-GR" sz="1200" spc="-1" strike="noStrike">
                <a:solidFill>
                  <a:srgbClr val="000000"/>
                </a:solidFill>
                <a:latin typeface="Times New Roman"/>
              </a:rPr>
              <a:t>Αδυναμίες  που πρέπει να λάβουμε υπόψη μας, για το σχεδιασμό και την υλοποίηση στη συνέχεια,  είνα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καθυστέρηση εφαρμογής του θεσμικού πλαισίου διαχείρισης για όλα τα προστατευόμενα φυσικά οικοσυστήματα  της Περιφέρειας με όλους τους κινδύνους που αυτό συνεπάγεται για την προστασία του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λλείψεις στο καθεστώς προστασίας αξιόλογων στοιχείων του ανθρωπογενούς περιβάλλοντο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οβαρές ελλείψεις σε υποδομές διαχείρισης και επεξεργασίας λυμάτων , με ιδιαίτερα οξύ το πρόβλημα καθυστέρησης δημιουργίας ΧΥΤ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επιβάρυνση του φυσικού περιβάλλοντος από περιβαλλοντικά οχλούσες παραγωγικές δραστηριότητες του δευτερογενούς και πρωτογενούς τομέ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καθυστέρηση οριοθέτησης χρήσεων γης και ζωνών εγκατάστασης περιβαλλοντικά οχλουσών βιομηχανικών και βιοτεχνικών μονάδων. Η καθυστέρηση αυτή δημιουργεί κινδύνους για την προστασία του οικολογικού πλούτου της Περιφέρειας, ιδιαίτερα με την προοπτική νέων επενδύσεων, εφόσον η Περιφέρεια καταστεί ελκυστική για την εγκατάσταση νέων επιχειρήσεων.</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041480" y="762120"/>
            <a:ext cx="4775040" cy="3581280"/>
          </a:xfrm>
          <a:prstGeom prst="rect">
            <a:avLst/>
          </a:prstGeom>
          <a:ln w="0">
            <a:noFill/>
          </a:ln>
        </p:spPr>
      </p:sp>
      <p:sp>
        <p:nvSpPr>
          <p:cNvPr id="122" name="PlaceHolder 2"/>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Καταλήγοντας στο σχεδιασμό της νέας προγραμματικής περιόδου, υιοθετώντας την αειφόρο ανάπτυξη, την αειφόρο διαχείρισης των φυσικών πόρων και την προστασίας του περιβάλλοντος ως πλαίσιο της περιφερειακής ανάπτυξης. πρέπει να περιλάβουμε :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κτός από την ολοκλήρωση των υποδομών , που αφορούν υποδομές επεξεργασίας λυμάτων, διαχείρισης απορριμμάτων και  δικτύων ύδρευσης,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Δράσεις για την </a:t>
            </a:r>
            <a:r>
              <a:rPr b="0" i="1" lang="el-GR" sz="1200" spc="-1" strike="noStrike">
                <a:solidFill>
                  <a:srgbClr val="000000"/>
                </a:solidFill>
                <a:latin typeface="Times New Roman"/>
              </a:rPr>
              <a:t>προστασία του φυσικού περιβάλλοντος </a:t>
            </a:r>
            <a:r>
              <a:rPr b="0" lang="el-GR" sz="1200" spc="-1" strike="noStrike">
                <a:solidFill>
                  <a:srgbClr val="000000"/>
                </a:solidFill>
                <a:latin typeface="Times New Roman"/>
              </a:rPr>
              <a:t>και της </a:t>
            </a:r>
            <a:r>
              <a:rPr b="0" i="1" lang="el-GR" sz="1200" spc="-1" strike="noStrike">
                <a:solidFill>
                  <a:srgbClr val="000000"/>
                </a:solidFill>
                <a:latin typeface="Times New Roman"/>
              </a:rPr>
              <a:t>βιοποικιλότητας</a:t>
            </a:r>
            <a:r>
              <a:rPr b="0" lang="el-GR" sz="1200" spc="-1" strike="noStrike">
                <a:solidFill>
                  <a:srgbClr val="000000"/>
                </a:solidFill>
                <a:latin typeface="Times New Roman"/>
              </a:rPr>
              <a:t>, με ιδιαίτερη προσοχή στις </a:t>
            </a:r>
            <a:r>
              <a:rPr b="0" i="1" lang="el-GR" sz="1200" spc="-1" strike="noStrike">
                <a:solidFill>
                  <a:srgbClr val="000000"/>
                </a:solidFill>
                <a:latin typeface="Times New Roman"/>
              </a:rPr>
              <a:t>κλιματολογικές αλλαγές,</a:t>
            </a:r>
            <a:r>
              <a:rPr b="0" lang="el-GR" sz="1200" spc="-1" strike="noStrike">
                <a:solidFill>
                  <a:srgbClr val="000000"/>
                </a:solidFill>
                <a:latin typeface="Times New Roman"/>
              </a:rPr>
              <a:t> την μείωση των επιβλαβών για την υγεία εκπομπών ρύπων και την ορθολογική διαχείριση  και παρακολούθηση της ποιότητας των  φυσικών πόρων της Περιφέρειας.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Times New Roman"/>
              </a:rPr>
              <a:t>Για το λόγο αυτό είναι αναγκαίο να προωθήσουμε  και να εφαρμόσουμε  προγράμματα ανανεώσιμων πηγών ενέργειας.</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πίσης θα πρέπει να αντιμετωπίσουμε </a:t>
            </a:r>
            <a:r>
              <a:rPr b="0" i="1" lang="el-GR" sz="1200" spc="-1" strike="noStrike">
                <a:solidFill>
                  <a:srgbClr val="000000"/>
                </a:solidFill>
                <a:latin typeface="Times New Roman"/>
              </a:rPr>
              <a:t>χωροταξικά και πολεοδομικά προβλήματα </a:t>
            </a:r>
            <a:r>
              <a:rPr b="0" lang="el-GR" sz="1200" spc="-1" strike="noStrike">
                <a:solidFill>
                  <a:srgbClr val="000000"/>
                </a:solidFill>
                <a:latin typeface="Times New Roman"/>
              </a:rPr>
              <a:t>του αστικού χώρου και  συγκρούσεις στις </a:t>
            </a:r>
            <a:r>
              <a:rPr b="0" i="1" lang="el-GR" sz="1200" spc="-1" strike="noStrike">
                <a:solidFill>
                  <a:srgbClr val="000000"/>
                </a:solidFill>
                <a:latin typeface="Times New Roman"/>
              </a:rPr>
              <a:t>χρήσεις γης</a:t>
            </a:r>
            <a:r>
              <a:rPr b="0" lang="el-GR" sz="1200" spc="-1" strike="noStrike">
                <a:solidFill>
                  <a:srgbClr val="000000"/>
                </a:solidFill>
                <a:latin typeface="Times New Roman"/>
              </a:rPr>
              <a:t> του υπαίθριου χώρου,</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καθώς και να καταρτίσουμε σχέδια διαχείρισης για όλες τις προστατευόμενες περιοχές και οικοσυστήματα με την εφαρμογή ολοκληρωμένων προγραμμάτων αποκατάστασης μέσω της υποστήριξης φορέων διαχείριση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041480" y="762120"/>
            <a:ext cx="4775040" cy="3581280"/>
          </a:xfrm>
          <a:prstGeom prst="rect">
            <a:avLst/>
          </a:prstGeom>
          <a:ln w="0">
            <a:noFill/>
          </a:ln>
        </p:spPr>
      </p:sp>
      <p:sp>
        <p:nvSpPr>
          <p:cNvPr id="124" name="PlaceHolder 2"/>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ο πλαίσιο επίτευξης αυτών των στόχων προϋπόθεση είναι:</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ευαισθητοποίηση πολιτών και ομάδων σε θέματα προστασίας και διατήρησης του περιβάλλοντος.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αξιοποίηση των κοινοτικών χρηματοδοτήσεων για προώθηση της αειφόρου διαχείρισης στη γεωργία καθώς και των φιλοπεριβαλλοντικών διατάξεων της νέας ΚΑΠ.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ύπαρξη πολιτικής οριζόντιας παρέμβασης σε θεσμικό και διοικητικό επίπεδο, ώστε να αποκεντρωθεί η αρμοδιότητα της υλοποίησης του περιφερειακού και χωροταξικού σχεδιασμού και της αειφόρου ανάπτυξης</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ενεργοποίηση των μηχανισμών της διοίκησης στη λήψη και εφαρμογή μέτρων για την προστασία του περιβάλλοντος.</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αξιοποίηση των νέων τεχνολογιών  και της  κοινωνίας της πληροφορίας.</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η συνέχεια οι  εισηγητές θα  αναλύσουν περισσότερο τα ειδικά  θέματα  για την αξιοποίηση και προστασία του περιβάλλοντος της Ηπείρου.</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4D1AEC-9D0E-4EF5-94F8-0E5C0809B2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4062B-0DD3-4A95-AE67-1DC72E358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C8D450-E10F-4909-B41A-BADB6A5046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AB73EB-594C-442E-8449-30037BD970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F8A644-DAF5-4D1C-B1FE-993D594340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92EB50-F7C5-434A-B7C1-6BEE6B0D0D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4B0399-E6F6-4C26-A7E8-A1E78B340D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CD6D7-74AF-4B7A-B973-32E00CCE5D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79AB95-867C-4CA7-BB96-52ABC82B87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E0841F-0D91-462B-98E1-BDEE4E5D5B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F4412-D583-4D7D-B167-9E50D763F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DAB9B-4008-459E-A7E2-68D0EC4A1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F7FAC-8DEB-4FFE-9811-4F7812946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2EFDF-664D-497D-A410-011189B0EE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E8D354-614F-4E00-B0F9-3CAF1056CD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9108B2-6059-4D92-BA6F-1C4B98A813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EF6EDA-96ED-4B57-B4D5-86ED0DA787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AF3CB-4592-4D9A-988C-068758411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1D678-8760-4885-B070-D2057D9BA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BFD51-F3E6-4CC0-9279-72065CD00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CB862-D81E-4800-9D0F-AE1EA2DC2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6D71A-F402-4339-88D0-0E8D967C1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E583F-2683-4220-85B6-0F10A9D1A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954C7-1EB3-4208-AD35-27D36C6B90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653CB-80F3-4AE3-BCBA-0017094E22DE}" type="slidenum">
              <a:rPr b="0" lang="el-GR"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7AE3E-878B-443E-A66B-D8FDDE9382DC}" type="slidenum">
              <a:rPr b="0" lang="el-GR"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45720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457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2a3d7a"/>
                </a:solidFill>
                <a:uFillTx/>
                <a:latin typeface="Times New Roman"/>
              </a:rPr>
              <a:t>ΑΝΑΒΑΘΜΙΣΗ ΚΑΙ ΠΡΟΣΤΑΣΙΑ ΤΟΥ ΠΕΡΙΒΑΛΛΟΝΤΟΣ </a:t>
            </a:r>
            <a:r>
              <a:rPr b="1" i="1" lang="en-US" sz="2800" spc="-1" strike="noStrike" u="sng">
                <a:solidFill>
                  <a:srgbClr val="2a3d7a"/>
                </a:solidFill>
                <a:uFillTx/>
                <a:latin typeface="Times New Roman"/>
              </a:rPr>
              <a:t> - </a:t>
            </a:r>
            <a:r>
              <a:rPr b="1" i="1" lang="el-GR" sz="2800" spc="-1" strike="noStrike" u="sng">
                <a:solidFill>
                  <a:srgbClr val="2a3d7a"/>
                </a:solidFill>
                <a:uFillTx/>
                <a:latin typeface="Times New Roman"/>
              </a:rPr>
              <a:t> ΠΡΟΛΗΨΗ ΚΙΝΔΥΝΩΝ</a:t>
            </a:r>
            <a:endParaRPr b="0" lang="en-US" sz="2800" spc="-1" strike="noStrike">
              <a:solidFill>
                <a:srgbClr val="5b5249"/>
              </a:solidFill>
              <a:latin typeface="Times New Roman"/>
            </a:endParaRPr>
          </a:p>
          <a:p>
            <a:pPr marL="45720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5720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5720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57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Times New Roman"/>
            </a:endParaRPr>
          </a:p>
          <a:p>
            <a:pPr marL="457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Times New Roman"/>
            </a:endParaRPr>
          </a:p>
          <a:p>
            <a:pPr marL="457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Times New Roman"/>
            </a:endParaRPr>
          </a:p>
          <a:p>
            <a:pPr marL="457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Times New Roman"/>
            </a:endParaRPr>
          </a:p>
          <a:p>
            <a:pPr marL="457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Times New Roman"/>
            </a:endParaRPr>
          </a:p>
          <a:p>
            <a:pPr marL="457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Αναπτυξιακό Συνέδριο Ηπείρου</a:t>
            </a:r>
            <a:endParaRPr b="0" lang="en-US" sz="1600" spc="-1" strike="noStrike">
              <a:solidFill>
                <a:srgbClr val="5b5249"/>
              </a:solidFill>
              <a:latin typeface="Times New Roman"/>
            </a:endParaRPr>
          </a:p>
          <a:p>
            <a:pPr marL="457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24/6/2005</a:t>
            </a:r>
            <a:endParaRPr b="0" lang="en-US" sz="1600" spc="-1" strike="noStrike">
              <a:solidFill>
                <a:srgbClr val="5b5249"/>
              </a:solidFill>
              <a:latin typeface="Times New Roman"/>
            </a:endParaRPr>
          </a:p>
          <a:p>
            <a:pPr marL="457200" indent="0" algn="ctr">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Times New Roman"/>
            </a:endParaRPr>
          </a:p>
          <a:p>
            <a:pPr marL="45720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5720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5720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5720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5720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p:txBody>
      </p:sp>
      <p:pic>
        <p:nvPicPr>
          <p:cNvPr id="98"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Αναθεώρηση της πολιτικής για την συνοχή της Ευρωπαϊκής Ένωσης</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Στόχοι προτεραιότητας 2007-2013 </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των Διαρθρωτικών Ταμείων </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Σύγκλιση</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Περιφερειακή ανταγωνιστικότητα &amp; απασχόληση</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υρωπαϊκή εδαφική συνεργασία</a:t>
            </a:r>
            <a:endParaRPr b="0" lang="en-US" sz="2400" spc="-1" strike="noStrike">
              <a:solidFill>
                <a:srgbClr val="5b5249"/>
              </a:solidFill>
              <a:latin typeface="Times New Roman"/>
            </a:endParaRPr>
          </a:p>
          <a:p>
            <a:pPr marL="4572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00"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762120" y="1267920"/>
            <a:ext cx="7772400" cy="4294440"/>
          </a:xfrm>
          <a:prstGeom prst="rect">
            <a:avLst/>
          </a:prstGeom>
          <a:noFill/>
          <a:ln w="0">
            <a:noFill/>
          </a:ln>
        </p:spPr>
        <p:txBody>
          <a:bodyPr lIns="90000" rIns="90000" tIns="46800" bIns="46800" anchor="t">
            <a:normAutofit/>
          </a:bodyPr>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5b5249"/>
                </a:solidFill>
                <a:uFillTx/>
                <a:latin typeface="Times New Roman"/>
              </a:rPr>
              <a:t>Αποτίμηση αποτελεσμάτων των περιβαλλοντικών δράσεων</a:t>
            </a:r>
            <a:endParaRPr b="0" lang="en-US" sz="2800" spc="-1" strike="noStrike">
              <a:solidFill>
                <a:srgbClr val="5b5249"/>
              </a:solidFill>
              <a:latin typeface="Times New Roman"/>
            </a:endParaRPr>
          </a:p>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Δράσεις δομημένου περ/ντος: Χωροταξικές και πολεοδομικές μελέτες</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Διαχείριση στερεών αποβλήτων:Λειτουργία των ΧΥΤΑ</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Διαχείριση υγρών αποβλήτων: Εγκαταστάσεις επεξεργασίας λυμάτων και δίκτυα αποχέτευσης</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Υποδομές ύδρευσης : Εκσυγχρονισμός και επέκταση δικτύων</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Φυσικό περιβάλλον: Θεσμοθέτηση μέτρων προστασίας σημαντικών οικοσυστημάτων</a:t>
            </a:r>
            <a:endParaRPr b="0" lang="en-US" sz="2400" spc="-1" strike="noStrike">
              <a:solidFill>
                <a:srgbClr val="5b5249"/>
              </a:solidFill>
              <a:latin typeface="Times New Roman"/>
            </a:endParaRPr>
          </a:p>
          <a:p>
            <a:pPr marL="45720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5720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5720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57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Times New Roman"/>
            </a:endParaRPr>
          </a:p>
          <a:p>
            <a:pPr marL="457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Times New Roman"/>
            </a:endParaRPr>
          </a:p>
          <a:p>
            <a:pPr marL="457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Times New Roman"/>
            </a:endParaRPr>
          </a:p>
          <a:p>
            <a:pPr marL="457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Times New Roman"/>
            </a:endParaRPr>
          </a:p>
          <a:p>
            <a:pPr marL="457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Times New Roman"/>
            </a:endParaRPr>
          </a:p>
          <a:p>
            <a:pPr marL="457200" indent="0" algn="ctr">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Times New Roman"/>
            </a:endParaRPr>
          </a:p>
          <a:p>
            <a:pPr marL="45720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5720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5720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5720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5720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p:txBody>
      </p:sp>
      <p:pic>
        <p:nvPicPr>
          <p:cNvPr id="102"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762120" y="836640"/>
            <a:ext cx="7772400" cy="4897440"/>
          </a:xfrm>
          <a:prstGeom prst="rect">
            <a:avLst/>
          </a:prstGeom>
          <a:noFill/>
          <a:ln w="0">
            <a:noFill/>
          </a:ln>
        </p:spPr>
        <p:txBody>
          <a:bodyPr lIns="90000" rIns="90000" tIns="46800" bIns="46800" anchor="t">
            <a:normAutofit fontScale="99000"/>
          </a:bodyPr>
          <a:p>
            <a:pPr marL="4525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5b5249"/>
                </a:solidFill>
                <a:uFillTx/>
                <a:latin typeface="Times New Roman"/>
              </a:rPr>
              <a:t>Δυνατά σημεία</a:t>
            </a:r>
            <a:endParaRPr b="0" lang="en-US" sz="2800" spc="-1" strike="noStrike">
              <a:solidFill>
                <a:srgbClr val="5b5249"/>
              </a:solidFill>
              <a:latin typeface="Times New Roman"/>
            </a:endParaRPr>
          </a:p>
          <a:p>
            <a:pPr marL="4525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2520" indent="-45252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Το φυσικό και ανθρωπογενές περιβάλλον της Ηπείρου . </a:t>
            </a:r>
            <a:endParaRPr b="0" lang="en-US" sz="2400" spc="-1" strike="noStrike">
              <a:solidFill>
                <a:srgbClr val="5b5249"/>
              </a:solidFill>
              <a:latin typeface="Times New Roman"/>
            </a:endParaRPr>
          </a:p>
          <a:p>
            <a:pPr marL="452520" indent="-45252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Η θεσμοθέτηση μέτρων προστασίας για προστατευόμενες περιοχές της Περιφέρειας και η σύσταση αντίστοιχων φορέων διαχείρισης. </a:t>
            </a:r>
            <a:endParaRPr b="0" lang="en-US" sz="2400" spc="-1" strike="noStrike">
              <a:solidFill>
                <a:srgbClr val="5b5249"/>
              </a:solidFill>
              <a:latin typeface="Times New Roman"/>
            </a:endParaRPr>
          </a:p>
          <a:p>
            <a:pPr marL="452520" indent="-45252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Το πλούσιο υδατικό δυναμικό. </a:t>
            </a:r>
            <a:endParaRPr b="0" lang="en-US" sz="2400" spc="-1" strike="noStrike">
              <a:solidFill>
                <a:srgbClr val="5b5249"/>
              </a:solidFill>
              <a:latin typeface="Times New Roman"/>
            </a:endParaRPr>
          </a:p>
          <a:p>
            <a:pPr marL="452520" indent="-45252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Η ύπαρξη αξιοποιήσιμου δυναμικού ανανεώσιμων πηγών ενέργειας </a:t>
            </a:r>
            <a:endParaRPr b="0" lang="en-US" sz="2400" spc="-1" strike="noStrike">
              <a:solidFill>
                <a:srgbClr val="5b5249"/>
              </a:solidFill>
              <a:latin typeface="Times New Roman"/>
            </a:endParaRPr>
          </a:p>
          <a:p>
            <a:pPr marL="452520" indent="-45252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Η ύπαρξη εγκεκριμένου χωροταξικού σχεδίου. </a:t>
            </a:r>
            <a:endParaRPr b="0" lang="en-US" sz="2400" spc="-1" strike="noStrike">
              <a:solidFill>
                <a:srgbClr val="5b5249"/>
              </a:solidFill>
              <a:latin typeface="Times New Roman"/>
            </a:endParaRPr>
          </a:p>
          <a:p>
            <a:pPr marL="452520" indent="-45252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Η ύπαρξη εγκεκριμένου περιφερειακού σχεδιασμού για τη διαχείριση στερεών αποβλήτων. </a:t>
            </a:r>
            <a:endParaRPr b="0" lang="en-US" sz="2400" spc="-1" strike="noStrike">
              <a:solidFill>
                <a:srgbClr val="5b5249"/>
              </a:solidFill>
              <a:latin typeface="Times New Roman"/>
            </a:endParaRPr>
          </a:p>
          <a:p>
            <a:pPr marL="452520" indent="-45252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Η περιβαλλοντική αδειοδότηση έργων και δραστηριοτήτων.</a:t>
            </a:r>
            <a:endParaRPr b="0" lang="en-US" sz="2400" spc="-1" strike="noStrike">
              <a:solidFill>
                <a:srgbClr val="5b5249"/>
              </a:solidFill>
              <a:latin typeface="Times New Roman"/>
            </a:endParaRPr>
          </a:p>
        </p:txBody>
      </p:sp>
      <p:pic>
        <p:nvPicPr>
          <p:cNvPr id="104"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762120" y="836640"/>
            <a:ext cx="7772400" cy="5184720"/>
          </a:xfrm>
          <a:prstGeom prst="rect">
            <a:avLst/>
          </a:prstGeom>
          <a:noFill/>
          <a:ln w="0">
            <a:noFill/>
          </a:ln>
        </p:spPr>
        <p:txBody>
          <a:bodyPr lIns="90000" rIns="90000" tIns="46800" bIns="46800" anchor="t">
            <a:normAutofit/>
          </a:bodyPr>
          <a:p>
            <a:pPr marL="457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5b5249"/>
                </a:solidFill>
                <a:uFillTx/>
                <a:latin typeface="Times New Roman"/>
              </a:rPr>
              <a:t>Αδυναμίες</a:t>
            </a:r>
            <a:endParaRPr b="0" lang="en-US" sz="28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Η καθυστέρηση εφαρμογής του θεσμικού πλαισίου διαχείρισης των προστατευόμενων φυσικών οικοσυστημάτων της Περιφέρειας.</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Ελλείψεις στο καθεστώς προστασίας αξιόλογων στοιχείων του ανθρωπογενούς περιβάλλοντος.</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Οι σοβαρές ελλείψεις σε υποδομές διαχείρισης και επεξεργασίας λυμάτων , και απορριμμάτων.</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Η επιβάρυνση του φυσικού περιβάλλοντος από περιβαλλοντικά οχλούσες παραγωγικές δραστηριότητες του δευτερογενή και πρωτογενή τομέα.</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Η καθυστέρηση οριοθέτησης χρήσεων γης και ζωνών εγκατάστασης περιβαλλοντικά οχλουσών βιομηχανικών και βιοτεχνικών μονάδων. </a:t>
            </a:r>
            <a:endParaRPr b="0" lang="en-US" sz="2400" spc="-1" strike="noStrike">
              <a:solidFill>
                <a:srgbClr val="5b5249"/>
              </a:solidFill>
              <a:latin typeface="Times New Roman"/>
            </a:endParaRPr>
          </a:p>
        </p:txBody>
      </p:sp>
      <p:pic>
        <p:nvPicPr>
          <p:cNvPr id="106"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360"/>
            <a:ext cx="777240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5b5249"/>
                </a:solidFill>
                <a:uFillTx/>
                <a:latin typeface="Times New Roman"/>
              </a:rPr>
              <a:t>Νέα προγραμματική περίοδος</a:t>
            </a:r>
            <a:endParaRPr b="0" lang="en-US" sz="2800" spc="-1" strike="noStrike">
              <a:solidFill>
                <a:srgbClr val="2a3d7a"/>
              </a:solidFill>
              <a:latin typeface="Times New Roman"/>
            </a:endParaRPr>
          </a:p>
        </p:txBody>
      </p:sp>
      <p:sp>
        <p:nvSpPr>
          <p:cNvPr id="108" name="PlaceHolder 2"/>
          <p:cNvSpPr>
            <a:spLocks noGrp="1"/>
          </p:cNvSpPr>
          <p:nvPr>
            <p:ph/>
          </p:nvPr>
        </p:nvSpPr>
        <p:spPr>
          <a:xfrm>
            <a:off x="1066680" y="1557360"/>
            <a:ext cx="7772400" cy="4176720"/>
          </a:xfrm>
          <a:prstGeom prst="rect">
            <a:avLst/>
          </a:prstGeom>
          <a:noFill/>
          <a:ln w="0">
            <a:noFill/>
          </a:ln>
        </p:spPr>
        <p:txBody>
          <a:bodyPr lIns="90000" rIns="90000" tIns="46800" bIns="46800" anchor="t">
            <a:normAutofit/>
          </a:bodyPr>
          <a:p>
            <a:pPr marL="457200" indent="-457200">
              <a:lnSpc>
                <a:spcPct val="8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5b5249"/>
                </a:solidFill>
                <a:latin typeface="Times New Roman"/>
              </a:rPr>
              <a:t>Ολοκλήρωση υποδομών περιβάλλοντος</a:t>
            </a:r>
            <a:endParaRPr b="0" lang="en-US" sz="2600" spc="-1" strike="noStrike">
              <a:solidFill>
                <a:srgbClr val="5b5249"/>
              </a:solidFill>
              <a:latin typeface="Times New Roman"/>
            </a:endParaRPr>
          </a:p>
          <a:p>
            <a:pPr marL="457200" indent="-457200">
              <a:lnSpc>
                <a:spcPct val="8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5b5249"/>
                </a:solidFill>
                <a:latin typeface="Times New Roman"/>
              </a:rPr>
              <a:t>Προστασία του φυσικού περιβάλλοντος </a:t>
            </a:r>
            <a:endParaRPr b="0" lang="en-US" sz="2600" spc="-1" strike="noStrike">
              <a:solidFill>
                <a:srgbClr val="5b5249"/>
              </a:solidFill>
              <a:latin typeface="Times New Roman"/>
            </a:endParaRPr>
          </a:p>
          <a:p>
            <a:pPr marL="457200" indent="-457200">
              <a:lnSpc>
                <a:spcPct val="8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5b5249"/>
                </a:solidFill>
                <a:latin typeface="Times New Roman"/>
              </a:rPr>
              <a:t>Μείωση των επιβλαβών για την υγεία εκπομπών ρύπων </a:t>
            </a:r>
            <a:endParaRPr b="0" lang="en-US" sz="2600" spc="-1" strike="noStrike">
              <a:solidFill>
                <a:srgbClr val="5b5249"/>
              </a:solidFill>
              <a:latin typeface="Times New Roman"/>
            </a:endParaRPr>
          </a:p>
          <a:p>
            <a:pPr marL="457200" indent="-457200">
              <a:lnSpc>
                <a:spcPct val="8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5b5249"/>
                </a:solidFill>
                <a:latin typeface="Times New Roman"/>
              </a:rPr>
              <a:t>Ορθολογική διαχείριση – ποιότητα φυσικών πόρων </a:t>
            </a:r>
            <a:endParaRPr b="0" lang="en-US" sz="2600" spc="-1" strike="noStrike">
              <a:solidFill>
                <a:srgbClr val="5b5249"/>
              </a:solidFill>
              <a:latin typeface="Times New Roman"/>
            </a:endParaRPr>
          </a:p>
          <a:p>
            <a:pPr marL="457200" indent="-457200">
              <a:lnSpc>
                <a:spcPct val="8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5b5249"/>
                </a:solidFill>
                <a:latin typeface="Times New Roman"/>
              </a:rPr>
              <a:t>Εφαρμογή προγραμμάτων ανανεώσιμων πηγών ενέργειας</a:t>
            </a:r>
            <a:endParaRPr b="0" lang="en-US" sz="2600" spc="-1" strike="noStrike">
              <a:solidFill>
                <a:srgbClr val="5b5249"/>
              </a:solidFill>
              <a:latin typeface="Times New Roman"/>
            </a:endParaRPr>
          </a:p>
          <a:p>
            <a:pPr marL="457200" indent="-457200">
              <a:lnSpc>
                <a:spcPct val="8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5b5249"/>
                </a:solidFill>
                <a:latin typeface="Times New Roman"/>
              </a:rPr>
              <a:t>Χωροταξικά και πολεοδομικά προβλήματα</a:t>
            </a:r>
            <a:endParaRPr b="0" lang="en-US" sz="2600" spc="-1" strike="noStrike">
              <a:solidFill>
                <a:srgbClr val="5b5249"/>
              </a:solidFill>
              <a:latin typeface="Times New Roman"/>
            </a:endParaRPr>
          </a:p>
          <a:p>
            <a:pPr marL="457200" indent="-457200">
              <a:lnSpc>
                <a:spcPct val="8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5b5249"/>
                </a:solidFill>
                <a:latin typeface="Times New Roman"/>
              </a:rPr>
              <a:t>Χρήσεις γης του υπαίθριου χώρου </a:t>
            </a:r>
            <a:endParaRPr b="0" lang="en-US" sz="2600" spc="-1" strike="noStrike">
              <a:solidFill>
                <a:srgbClr val="5b5249"/>
              </a:solidFill>
              <a:latin typeface="Times New Roman"/>
            </a:endParaRPr>
          </a:p>
          <a:p>
            <a:pPr marL="457200" indent="-457200">
              <a:lnSpc>
                <a:spcPct val="8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5b5249"/>
                </a:solidFill>
                <a:latin typeface="Times New Roman"/>
              </a:rPr>
              <a:t>Υποστήριξη φορέων διαχείρισης. </a:t>
            </a:r>
            <a:endParaRPr b="0" lang="en-US" sz="2600" spc="-1" strike="noStrike">
              <a:solidFill>
                <a:srgbClr val="5b5249"/>
              </a:solidFill>
              <a:latin typeface="Times New Roman"/>
            </a:endParaRPr>
          </a:p>
          <a:p>
            <a:pPr marL="4572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762120" y="836640"/>
            <a:ext cx="7772400" cy="4897440"/>
          </a:xfrm>
          <a:prstGeom prst="rect">
            <a:avLst/>
          </a:prstGeom>
          <a:noFill/>
          <a:ln w="0">
            <a:noFill/>
          </a:ln>
        </p:spPr>
        <p:txBody>
          <a:bodyPr lIns="90000" rIns="90000" tIns="46800" bIns="46800" anchor="t">
            <a:normAutofit fontScale="99000"/>
          </a:bodyPr>
          <a:p>
            <a:pPr marL="45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2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5b5249"/>
                </a:solidFill>
                <a:uFillTx/>
                <a:latin typeface="Times New Roman"/>
              </a:rPr>
              <a:t>Προϋποθέσεις</a:t>
            </a:r>
            <a:endParaRPr b="0" lang="en-US" sz="2800" spc="-1" strike="noStrike">
              <a:solidFill>
                <a:srgbClr val="5b5249"/>
              </a:solidFill>
              <a:latin typeface="Times New Roman"/>
            </a:endParaRPr>
          </a:p>
          <a:p>
            <a:pPr marL="452520" indent="-45252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Ευαισθητοποίηση πολιτών σε περιβαλλοντικά θέματα </a:t>
            </a:r>
            <a:endParaRPr b="0" lang="en-US" sz="2400" spc="-1" strike="noStrike">
              <a:solidFill>
                <a:srgbClr val="5b5249"/>
              </a:solidFill>
              <a:latin typeface="Times New Roman"/>
            </a:endParaRPr>
          </a:p>
          <a:p>
            <a:pPr marL="452520" indent="-45252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Αξιοποίηση των κοινοτικών χρηματοδοτήσεων για προώθηση της αειφόρου διαχείρισης στη γεωργία καθώς και των φιλοπεριβαλλοντικών διατάξεων της νέας ΚΑΠ. </a:t>
            </a:r>
            <a:endParaRPr b="0" lang="en-US" sz="2400" spc="-1" strike="noStrike">
              <a:solidFill>
                <a:srgbClr val="5b5249"/>
              </a:solidFill>
              <a:latin typeface="Times New Roman"/>
            </a:endParaRPr>
          </a:p>
          <a:p>
            <a:pPr marL="452520" indent="-45252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Αποκέντρωση των αρμοδιοτήτων. </a:t>
            </a:r>
            <a:endParaRPr b="0" lang="en-US" sz="2400" spc="-1" strike="noStrike">
              <a:solidFill>
                <a:srgbClr val="5b5249"/>
              </a:solidFill>
              <a:latin typeface="Times New Roman"/>
            </a:endParaRPr>
          </a:p>
          <a:p>
            <a:pPr marL="452520" indent="-45252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Ενεργοποίηση των μηχανισμών της διοίκησης στη λήψη και εφαρμογή μέτρων για την προστασία του περιβάλλοντος. </a:t>
            </a:r>
            <a:endParaRPr b="0" lang="en-US" sz="2400" spc="-1" strike="noStrike">
              <a:solidFill>
                <a:srgbClr val="5b5249"/>
              </a:solidFill>
              <a:latin typeface="Times New Roman"/>
            </a:endParaRPr>
          </a:p>
          <a:p>
            <a:pPr marL="452520" indent="-45252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Αξιοποίηση των νέων τεχνολογιών και της κοινωνίας της πληροφορίας.</a:t>
            </a:r>
            <a:endParaRPr b="0" lang="en-US" sz="2400" spc="-1" strike="noStrike">
              <a:solidFill>
                <a:srgbClr val="5b5249"/>
              </a:solidFill>
              <a:latin typeface="Times New Roman"/>
            </a:endParaRPr>
          </a:p>
        </p:txBody>
      </p:sp>
      <p:pic>
        <p:nvPicPr>
          <p:cNvPr id="110"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1T06:35:02Z</dcterms:created>
  <dc:creator>evipapan</dc:creator>
  <dc:description/>
  <dc:language>en-US</dc:language>
  <cp:lastModifiedBy>evipapan</cp:lastModifiedBy>
  <dcterms:modified xsi:type="dcterms:W3CDTF">2005-06-23T11:33:18Z</dcterms:modified>
  <cp:revision>213</cp:revision>
  <dc:subject/>
  <dc:title>Παρουσίαση του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45731540</vt:r8>
  </property>
  <property fmtid="{D5CDD505-2E9C-101B-9397-08002B2CF9AE}" pid="3" name="_AuthorEmail">
    <vt:lpwstr>agkosiou@mou.gr</vt:lpwstr>
  </property>
  <property fmtid="{D5CDD505-2E9C-101B-9397-08002B2CF9AE}" pid="4" name="_AuthorEmailDisplayName">
    <vt:lpwstr>ΓΚΟΣΙΟΥ  ΑΦΡΟΔΙΤΗ</vt:lpwstr>
  </property>
  <property fmtid="{D5CDD505-2E9C-101B-9397-08002B2CF9AE}" pid="5" name="_EmailSubject">
    <vt:lpwstr/>
  </property>
</Properties>
</file>