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C8DDE-8CA3-4111-8A49-F41A3A2E7A40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Κέντρα υγείας αστικού τύπο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Από ΄75000 άτομα που επισκέφθηκαν το κέντρο υγείας Βύρωνα σε ένα χρόν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Ένα πολύ μικρό %  χρειάστηκε να μετακινηθεί σε κάποιο νοσ. Της Αθήνας για περαιτέρω εξετάσει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Πολυδύναμα ιατρεί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Τα έχουν εμπιστευτεί απόλυτα οι ακρίτες του αιγαίο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Η σωστή αντιμετώπιση από τους γιατρούς στην υποδοχή  και το συνοδευτικό σημείωμα είναι το μυστικό της επιτυχούς διεκπεραίωσης  ενός περιστατικού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Τηλεϊατρική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Είχα την τύχη να τοποθετήσω τα πρώτα 2 συστήματα στην Τήλο και στην Σύμη τα οποία συνδέθηκαν με την Καρδιολογική μονάδα εμφραγμάτων και το γαστροενερολογικό τμήμα του  νοσοκομείο τις Ρόδο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Για την διαφύλαξη του απορρήτου του ασθενούς τα μηχανήματα ήταν τοποθετημένα σε απομονωμένα δωμάτι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Όλα τα ιατρικά τμήματα είχαν πρόσβαση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Τα οφέλη είναι πάρα πολλά και για τις 2 πλευρές αυτά είναι μόλις ένα δείγμ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Ας  φροντίσουμε όλοι μας να βοηθήσουμε το σύστημα υγείας να αντεπεξέλθε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στο δύσκολο έργο το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Δεν τρέχουμε στο νοσοκομείο για την παραμικρή ενόχληση που αισθανθούμ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Πάμε πρώτα στο πλησιέστερο Ιατρείο και οι γιατροί εκεί αποφασίζουν αν χρειάζεται περαιτέρω μετακίνηση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B239-778F-4560-97D9-97271A8AF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E446-48BB-45B5-9074-2D533563F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BA84-9EC3-47FA-9EBA-A577A0EDB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27D9-5D22-4AC7-ADF9-89883970B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8AAB-56DB-4B8F-BA69-23174AD86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F2FE-CD28-422C-A15C-3A63538A1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ADF7-9509-497B-9BD8-4ADBB76FA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15A2-B02D-408C-9BC5-02F59F7A0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4B39-A873-4264-B4B4-CA07205BD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2171-6583-4E54-AA82-C88F6DE6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37C6-9646-4639-8E99-FBD883D4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E481-20CF-48E7-B961-52050F76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C67F1-A42A-4F9E-9FF8-408AE72E8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Πρωτοβάθμια περίθαλψη</a:t>
            </a:r>
            <a:br>
              <a:rPr sz="4800"/>
            </a:b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οφέλη στον ασθενή</a:t>
            </a:r>
            <a:br>
              <a:rPr sz="4800"/>
            </a:b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και στην πολιτεί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9525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Δημήτρης Μάτσια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Διοικητή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Γενικού Νοσοκομείου Φιλιατώ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Times New Roman"/>
              </a:rPr>
              <a:t>Πρωτοβάθμια</a:t>
            </a: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 περίθαλψ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Κέντρα υγεία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Κέντρα υγείας αστικού τύπο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(Βύρωνας Αττικής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Πολυδύναμα  περιφερειακά ιατρεί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(Καστελόριζο, Σύμη κλπ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Αγροτικά ιατρεί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Times New Roman"/>
              </a:rPr>
              <a:t>Κέντρα Υγεία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990000"/>
                </a:solidFill>
                <a:latin typeface="Times New Roman"/>
              </a:rPr>
              <a:t>Άμεση πρόσβαση στον πολίτ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lang="el-GR" sz="3200" spc="-1" strike="noStrike">
                <a:solidFill>
                  <a:srgbClr val="333399"/>
                </a:solidFill>
                <a:latin typeface="Times New Roman"/>
              </a:rPr>
              <a:t>επείγον περιστατικ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l-GR" sz="3200" spc="-1" strike="noStrike">
                <a:solidFill>
                  <a:srgbClr val="333399"/>
                </a:solidFill>
                <a:latin typeface="Times New Roman"/>
              </a:rPr>
              <a:t>εξετάσεις ρουτίν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l-GR" sz="3200" spc="-1" strike="noStrike">
                <a:solidFill>
                  <a:srgbClr val="333399"/>
                </a:solidFill>
                <a:latin typeface="Times New Roman"/>
              </a:rPr>
              <a:t>συνταγογράφηση</a:t>
            </a:r>
            <a:r>
              <a:rPr b="0" lang="el-GR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Times New Roman"/>
              </a:rPr>
              <a:t>Πολυδύναμα Ιατρεί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333399"/>
                </a:solidFill>
                <a:latin typeface="Times New Roman"/>
              </a:rPr>
              <a:t>Παρέχουν υπηρεσίες εφάμιλλες τω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l-GR" sz="2800" spc="-1" strike="noStrike">
                <a:solidFill>
                  <a:srgbClr val="333399"/>
                </a:solidFill>
                <a:latin typeface="Times New Roman"/>
              </a:rPr>
              <a:t>Κέντρων Υγείας σε μικρότερη κλίμακα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l-GR" sz="2800" spc="-1" strike="noStrike">
                <a:solidFill>
                  <a:srgbClr val="99cc00"/>
                </a:solidFill>
                <a:latin typeface="Times New Roman"/>
              </a:rPr>
              <a:t>(Γενικό Ιατρό, Παιδίατρο… Αγροτικό ή και στρατιωτικό ιατρό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99cc00"/>
                </a:solidFill>
                <a:latin typeface="Times New Roman"/>
              </a:rPr>
              <a:t>   </a:t>
            </a:r>
            <a:r>
              <a:rPr b="1" lang="el-GR" sz="2800" spc="-1" strike="noStrike">
                <a:solidFill>
                  <a:srgbClr val="990000"/>
                </a:solidFill>
                <a:latin typeface="Times New Roman"/>
              </a:rPr>
              <a:t>Τηλεϊατρική νέα τεχνολογία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99cc00"/>
                </a:solidFill>
                <a:latin typeface="Times New Roman"/>
              </a:rPr>
              <a:t>  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Άμεση επαφή του ασθενούς με τον γιατρό στο νοσοκομείο μέσω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ctv. (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μετάβαση ζωντανής εικόνας του ασθενούς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KG, ultrasound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leconference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μεταξύ γιατρώ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κλ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Times New Roman"/>
              </a:rPr>
              <a:t>Αγροτικά Ιατρεί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3399"/>
                </a:solidFill>
                <a:latin typeface="Times New Roman"/>
              </a:rPr>
              <a:t>Παρακολούθηση ασθενών   (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follow up</a:t>
            </a:r>
            <a:r>
              <a:rPr b="1" lang="el-GR" sz="32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υνταγογράφησ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Times New Roman"/>
              </a:rPr>
              <a:t>οφέλ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Στον πολίτη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Αμεσότητ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Μικρή μετακίνησ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Καμία καθυστέρησ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Ασφάλει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4ωρη κάλυψ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Μικρό κόστος  μετάβαση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204800" y="1600200"/>
            <a:ext cx="448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Στην πολιτεί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Μείωση περιστατικών στα νοσοκομεί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Λιγότερο προσωπικ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Ορθότερη κατανομή στα τμήματ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Καλύτερη εξυπηρέτησ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Μείωση  κόστ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Times New Roman"/>
              </a:rPr>
              <a:t>Κοινό</a:t>
            </a:r>
            <a:r>
              <a:rPr b="0" lang="en-US" sz="4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990000"/>
                </a:solidFill>
                <a:latin typeface="Times New Roman"/>
              </a:rPr>
              <a:t>όφελο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533520" y="18284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τα νοσοκομεία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να προσφέρου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δευτεροβάθμια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κα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τριτοβάθμι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Φροντίδ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1T18:52:51Z</dcterms:created>
  <dc:creator>manager</dc:creator>
  <dc:description/>
  <dc:language>en-US</dc:language>
  <cp:lastModifiedBy>manager</cp:lastModifiedBy>
  <dcterms:modified xsi:type="dcterms:W3CDTF">2005-06-22T14:31:43Z</dcterms:modified>
  <cp:revision>5</cp:revision>
  <dc:subject/>
  <dc:title>Πρωτοβάθμια περίθαλψη οφέλη στον ασθενή και στην πολιτεία</dc:title>
</cp:coreProperties>
</file>